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42D-45F5-44F4-9253-533503E3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FE2-4747-4DA5-9369-808383C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1B2-E012-414C-B7A8-865715DA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0C3-04F8-4B8E-B970-3CFFE7EE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9CB-39B3-4012-A5BA-3EC79814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3D2-8B71-49C4-AC0E-600B052A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768-129E-4E34-A2EE-65A82AFA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4F8-E2FD-4013-A46D-24164F43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E53-FD6D-4276-9DBF-9765787C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E68-B28D-431F-8B53-024C7C6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B6E-BAA9-4631-99E3-31240AE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B8B-69FA-46F8-8CE5-5D3218F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BC2-BC90-4FBB-B58E-F3C5DEB2A12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D03-2708-46B6-9A38-2DA73A2928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13960" y="114120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ция №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ой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6E4-AB05-4932-BF38-EED7182B8E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2B1-2A00-4A22-B0A5-067C5EFFD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2795760"/>
          <a:ext cx="66279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95760"/>
                    <a:ext cx="662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475-4A9E-4652-9E7A-C74A0466AF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0" y="2795760"/>
          <a:ext cx="66279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95760"/>
                    <a:ext cx="662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4145040"/>
          <a:ext cx="88376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45040"/>
                    <a:ext cx="8837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3A5-4B64-479A-9505-8CE90FFD06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2795760"/>
          <a:ext cx="66279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95760"/>
                    <a:ext cx="662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0" y="5562720"/>
          <a:ext cx="887580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562720"/>
                    <a:ext cx="8875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0" y="4145040"/>
          <a:ext cx="883764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145040"/>
                    <a:ext cx="8837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3D6-0AE0-4B33-8C7D-9987569E58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B25-352D-4356-9A65-39A1D622D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13636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Теорема.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Двойное отношени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четырёх точек прямой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не изменяется при перестановк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базисной и делящей пары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с сохранением порядка точек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внутри каждой пары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или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при изменении порядка точек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в обеих па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C02-2373-4515-8034-B9A757547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Математика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наука эксперимента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димир Игоревич Арноль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967-3324-4954-8997-09BBE04BA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Математика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наука эксперимента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димир Игоревич Арноль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пробуем эмпирически подобрать форму записи двойного отношения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09760" y="3767040"/>
          <a:ext cx="26654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9760" y="3767040"/>
                    <a:ext cx="2665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AEB-9641-4065-A122-276D74EEC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70488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0488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E41-C441-4D26-A6D2-1ED1035ADA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94E-606A-4FAA-8358-8283E40C5B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ое отношение точек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базис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ля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5120" y="1204920"/>
          <a:ext cx="49514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04920"/>
                    <a:ext cx="4951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0E1-23E5-40C7-9E77-69CD82E33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632-DE1D-4C22-A3C8-8F321D5AE3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787480"/>
          <a:ext cx="91440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87480"/>
                    <a:ext cx="9144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8F5-2051-4BD2-8F27-A027012532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2787480"/>
          <a:ext cx="91440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87480"/>
                    <a:ext cx="9144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4192560"/>
          <a:ext cx="86612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92560"/>
                    <a:ext cx="8661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548-4806-4694-90A1-7F49E5058B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2787480"/>
          <a:ext cx="91440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87480"/>
                    <a:ext cx="9144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4192560"/>
          <a:ext cx="86612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92560"/>
                    <a:ext cx="8661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5562720"/>
          <a:ext cx="866124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562720"/>
                    <a:ext cx="8661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BA2-4ED9-46C3-A02E-3FF4E09AA0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ое отношение точек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базис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ля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Теорема.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Если даны три различные точк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и действительное число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0, т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уществует единственная такая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этой прямой, что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) =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5120" y="1204920"/>
          <a:ext cx="49514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04920"/>
                    <a:ext cx="4951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3A5-F295-4E19-8B2B-6DBD126F9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Существует всего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азличных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значений двойного 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639880" y="1979640"/>
          <a:ext cx="38847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1979640"/>
                    <a:ext cx="3884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C25-7311-4F15-AD18-F9A615C9EC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0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ыполним некоторые пре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лучим 3 базовых значе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и 3 от них произ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979640"/>
          <a:ext cx="9144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7964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330-D963-430F-BC5F-07021790D3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Разберёмся с первыми т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149640" y="1395360"/>
          <a:ext cx="28177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9640" y="1395360"/>
                    <a:ext cx="28177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19F-3534-48DC-984C-6AFA57F4F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20600" y="0"/>
            <a:ext cx="9144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начале рассмотрим варианты для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F0F-89C4-4C6A-83C7-C2CCA15295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20600" y="0"/>
            <a:ext cx="9144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начале рассмотрим варианты для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08240"/>
            <a:ext cx="9144000" cy="310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35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ACB-7062-4E4E-BE2A-74A67BC437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E65-8885-42B6-A280-1D97D189FC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Татьяна</cp:lastModifiedBy>
  <dcterms:modified xsi:type="dcterms:W3CDTF">2019-10-17T07:26:24Z</dcterms:modified>
  <cp:revision>1644</cp:revision>
  <dc:subject/>
  <dc:title>Основы математического моделирования в педагогических измерениях</dc:title>
</cp:coreProperties>
</file>