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wmf" ContentType="image/x-wmf"/>
  <Override PartName="/ppt/media/image23.png" ContentType="image/png"/>
  <Override PartName="/ppt/media/image22.png" ContentType="image/png"/>
  <Override PartName="/ppt/media/image21.wmf" ContentType="image/x-wmf"/>
  <Override PartName="/ppt/media/image18.png" ContentType="image/png"/>
  <Override PartName="/ppt/media/image19.png" ContentType="image/png"/>
  <Override PartName="/ppt/media/image20.png" ContentType="image/png"/>
  <Override PartName="/ppt/media/image17.wmf" ContentType="image/x-wmf"/>
  <Override PartName="/ppt/media/image15.wmf" ContentType="image/x-wmf"/>
  <Override PartName="/ppt/media/image29.png" ContentType="image/png"/>
  <Override PartName="/ppt/media/image32.wmf" ContentType="image/x-wmf"/>
  <Override PartName="/ppt/media/image8.png" ContentType="image/png"/>
  <Override PartName="/ppt/media/image16.wmf" ContentType="image/x-wmf"/>
  <Override PartName="/ppt/media/image12.wmf" ContentType="image/x-wmf"/>
  <Override PartName="/ppt/media/image13.wmf" ContentType="image/x-wmf"/>
  <Override PartName="/ppt/media/image30.wmf" ContentType="image/x-wmf"/>
  <Override PartName="/ppt/media/image5.wmf" ContentType="image/x-wmf"/>
  <Override PartName="/ppt/media/image28.wmf" ContentType="image/x-wmf"/>
  <Override PartName="/ppt/media/image31.wmf" ContentType="image/x-wmf"/>
  <Override PartName="/ppt/media/image6.wmf" ContentType="image/x-wmf"/>
  <Override PartName="/ppt/media/image35.png" ContentType="image/png"/>
  <Override PartName="/ppt/media/image36.png" ContentType="image/png"/>
  <Override PartName="/ppt/media/image9.wmf" ContentType="image/x-wmf"/>
  <Override PartName="/ppt/media/image40.png" ContentType="image/png"/>
  <Override PartName="/ppt/media/image38.wmf" ContentType="image/x-wmf"/>
  <Override PartName="/ppt/media/image39.png" ContentType="image/png"/>
  <Override PartName="/ppt/media/image37.wmf" ContentType="image/x-wmf"/>
  <Override PartName="/ppt/media/image7.wmf" ContentType="image/x-wmf"/>
  <Override PartName="/ppt/media/image11.wmf" ContentType="image/x-wmf"/>
  <Override PartName="/ppt/media/image10.wmf" ContentType="image/x-wmf"/>
  <Override PartName="/ppt/media/image2.png" ContentType="image/png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1.png" ContentType="image/png"/>
  <Override PartName="/ppt/media/image24.png" ContentType="image/png"/>
  <Override PartName="/ppt/media/image14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91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A6667-9A1A-4F4E-BA08-0592D3112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F83D3-5FC7-4B84-8768-42DEE6BD6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C7C0B-4111-4DD5-B884-367D285AB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3257B-8313-42DD-8818-702EF398B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79B77-B7B0-48C3-99D1-579566573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EB294-17FC-413D-842E-2B6A126C0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83178-BD24-4E12-B2B6-BADA56C31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AA17F-646C-4FD2-A302-1F20CDA83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6EDD5-3F34-4E7F-8DE0-B4F862DFB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1399C-3464-4C8C-A383-02231A6B8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F0052-BFDC-44C4-8317-1C724B5DB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0287D-4ADA-4D7D-A575-4A0F8E7FE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DD929-52E1-4F6A-AC4F-3E01A775320E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9E49E-E975-411E-AEA1-6CB9EDB88FD9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3.wmf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5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6.wmf"/><Relationship Id="rId8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wmf"/><Relationship Id="rId5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1.wmf"/><Relationship Id="rId5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2.wmf"/><Relationship Id="rId7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4.wmf"/><Relationship Id="rId5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7.wmf"/><Relationship Id="rId4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8.wmf"/><Relationship Id="rId6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8.wmf"/><Relationship Id="rId6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8.wmf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13960" y="1141200"/>
            <a:ext cx="7970760" cy="42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роективн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геометр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Лекции №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Двойно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(сложное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отношение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0EDC7-0EE5-4837-B703-003472AC3D2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620800" y="3282840"/>
            <a:ext cx="6523200" cy="35751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0" y="0"/>
            <a:ext cx="9144000" cy="362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оверим эт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Unicode MS"/>
              </a:rPr>
              <a:t>Повернём прямую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'</a:t>
            </a:r>
            <a:r>
              <a:rPr b="0" lang="ru-RU" sz="3200" spc="-1" strike="noStrike">
                <a:solidFill>
                  <a:srgbClr val="000000"/>
                </a:solidFill>
                <a:latin typeface="Arial Unicode MS"/>
              </a:rPr>
              <a:t> около точки C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'</a:t>
            </a:r>
            <a:r>
              <a:rPr b="0" lang="ru-RU" sz="3200" spc="-1" strike="noStrike">
                <a:solidFill>
                  <a:srgbClr val="000000"/>
                </a:solidFill>
                <a:latin typeface="Arial Unicode MS"/>
              </a:rPr>
              <a:t>, до положения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''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|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l.</a:t>
            </a:r>
            <a:r>
              <a:rPr b="0" lang="ru-RU" sz="32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Unicode MS"/>
              </a:rPr>
              <a:t>Затем, проектируя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ru-RU" sz="3200" spc="-1" strike="noStrike">
                <a:solidFill>
                  <a:srgbClr val="000000"/>
                </a:solidFill>
                <a:latin typeface="Arial Unicode MS"/>
              </a:rPr>
              <a:t> на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''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 Unicode MS"/>
              </a:rPr>
              <a:t>параллельно CC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'</a:t>
            </a:r>
            <a:r>
              <a:rPr b="0" lang="ru-RU" sz="3200" spc="-1" strike="noStrike">
                <a:solidFill>
                  <a:srgbClr val="000000"/>
                </a:solidFill>
                <a:latin typeface="Arial Unicode MS"/>
              </a:rPr>
              <a:t>, получим три точки A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''</a:t>
            </a:r>
            <a:r>
              <a:rPr b="0" lang="ru-RU" sz="3200" spc="-1" strike="noStrike">
                <a:solidFill>
                  <a:srgbClr val="000000"/>
                </a:solidFill>
                <a:latin typeface="Arial Unicode MS"/>
              </a:rPr>
              <a:t>, B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''</a:t>
            </a:r>
            <a:r>
              <a:rPr b="0" lang="ru-RU" sz="3200" spc="-1" strike="noStrike">
                <a:solidFill>
                  <a:srgbClr val="000000"/>
                </a:solidFill>
                <a:latin typeface="Arial Unicode MS"/>
              </a:rPr>
              <a:t> и C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''</a:t>
            </a:r>
            <a:r>
              <a:rPr b="0" lang="ru-RU" sz="3200" spc="-1" strike="noStrike">
                <a:solidFill>
                  <a:srgbClr val="000000"/>
                </a:solidFill>
                <a:latin typeface="Arial Unicode MS"/>
              </a:rPr>
              <a:t> (≡C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'</a:t>
            </a:r>
            <a:r>
              <a:rPr b="0" lang="ru-RU" sz="3200" spc="-1" strike="noStrike">
                <a:solidFill>
                  <a:srgbClr val="000000"/>
                </a:solidFill>
                <a:latin typeface="Arial Unicode MS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Unicode MS"/>
              </a:rPr>
              <a:t>Прямые A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'</a:t>
            </a:r>
            <a:r>
              <a:rPr b="0" lang="ru-RU" sz="3200" spc="-1" strike="noStrike">
                <a:solidFill>
                  <a:srgbClr val="000000"/>
                </a:solidFill>
                <a:latin typeface="Arial Unicode MS"/>
              </a:rPr>
              <a:t>A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''</a:t>
            </a:r>
            <a:r>
              <a:rPr b="0" lang="bo-CN" sz="32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 Unicode MS"/>
              </a:rPr>
              <a:t>и B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'</a:t>
            </a:r>
            <a:r>
              <a:rPr b="0" lang="ru-RU" sz="3200" spc="-1" strike="noStrike">
                <a:solidFill>
                  <a:srgbClr val="000000"/>
                </a:solidFill>
                <a:latin typeface="Arial Unicode MS"/>
              </a:rPr>
              <a:t>B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''</a:t>
            </a:r>
            <a:r>
              <a:rPr b="0" lang="ru-RU" sz="3200" spc="-1" strike="noStrike">
                <a:solidFill>
                  <a:srgbClr val="000000"/>
                </a:solidFill>
                <a:latin typeface="Arial Unicode MS"/>
              </a:rPr>
              <a:t> пересекутся в точке O –центре второй проекц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 rot="13171800">
            <a:off x="6006600" y="4459320"/>
            <a:ext cx="723600" cy="519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6298474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6298474"/>
              </a:path>
            </a:pathLst>
          </a:custGeom>
          <a:noFill/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55A99-E33A-4B30-814A-DE25CA6BBE0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620800" y="3282840"/>
            <a:ext cx="6523200" cy="35751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0"/>
            <a:ext cx="9144000" cy="50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оверим эт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Unicode MS"/>
              </a:rPr>
              <a:t>Повернём прямую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'</a:t>
            </a:r>
            <a:r>
              <a:rPr b="0" lang="ru-RU" sz="3200" spc="-1" strike="noStrike">
                <a:solidFill>
                  <a:srgbClr val="000000"/>
                </a:solidFill>
                <a:latin typeface="Arial Unicode MS"/>
              </a:rPr>
              <a:t> около точки C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'</a:t>
            </a:r>
            <a:r>
              <a:rPr b="0" lang="ru-RU" sz="3200" spc="-1" strike="noStrike">
                <a:solidFill>
                  <a:srgbClr val="000000"/>
                </a:solidFill>
                <a:latin typeface="Arial Unicode MS"/>
              </a:rPr>
              <a:t>, до положения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''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|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l.</a:t>
            </a:r>
            <a:r>
              <a:rPr b="0" lang="ru-RU" sz="32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Unicode MS"/>
              </a:rPr>
              <a:t>Затем, проектируя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ru-RU" sz="3200" spc="-1" strike="noStrike">
                <a:solidFill>
                  <a:srgbClr val="000000"/>
                </a:solidFill>
                <a:latin typeface="Arial Unicode MS"/>
              </a:rPr>
              <a:t> на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''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 Unicode MS"/>
              </a:rPr>
              <a:t>параллельно CC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'</a:t>
            </a:r>
            <a:r>
              <a:rPr b="0" lang="ru-RU" sz="3200" spc="-1" strike="noStrike">
                <a:solidFill>
                  <a:srgbClr val="000000"/>
                </a:solidFill>
                <a:latin typeface="Arial Unicode MS"/>
              </a:rPr>
              <a:t>, получим три точки A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''</a:t>
            </a:r>
            <a:r>
              <a:rPr b="0" lang="ru-RU" sz="3200" spc="-1" strike="noStrike">
                <a:solidFill>
                  <a:srgbClr val="000000"/>
                </a:solidFill>
                <a:latin typeface="Arial Unicode MS"/>
              </a:rPr>
              <a:t>, B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''</a:t>
            </a:r>
            <a:r>
              <a:rPr b="0" lang="ru-RU" sz="3200" spc="-1" strike="noStrike">
                <a:solidFill>
                  <a:srgbClr val="000000"/>
                </a:solidFill>
                <a:latin typeface="Arial Unicode MS"/>
              </a:rPr>
              <a:t> и C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''</a:t>
            </a:r>
            <a:r>
              <a:rPr b="0" lang="ru-RU" sz="3200" spc="-1" strike="noStrike">
                <a:solidFill>
                  <a:srgbClr val="000000"/>
                </a:solidFill>
                <a:latin typeface="Arial Unicode MS"/>
              </a:rPr>
              <a:t> (≡C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'</a:t>
            </a:r>
            <a:r>
              <a:rPr b="0" lang="ru-RU" sz="3200" spc="-1" strike="noStrike">
                <a:solidFill>
                  <a:srgbClr val="000000"/>
                </a:solidFill>
                <a:latin typeface="Arial Unicode MS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Unicode MS"/>
              </a:rPr>
              <a:t>Прямые A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'</a:t>
            </a:r>
            <a:r>
              <a:rPr b="0" lang="ru-RU" sz="3200" spc="-1" strike="noStrike">
                <a:solidFill>
                  <a:srgbClr val="000000"/>
                </a:solidFill>
                <a:latin typeface="Arial Unicode MS"/>
              </a:rPr>
              <a:t>A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''</a:t>
            </a:r>
            <a:r>
              <a:rPr b="0" lang="bo-CN" sz="32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 Unicode MS"/>
              </a:rPr>
              <a:t>и B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'</a:t>
            </a:r>
            <a:r>
              <a:rPr b="0" lang="ru-RU" sz="3200" spc="-1" strike="noStrike">
                <a:solidFill>
                  <a:srgbClr val="000000"/>
                </a:solidFill>
                <a:latin typeface="Arial Unicode MS"/>
              </a:rPr>
              <a:t>B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''</a:t>
            </a:r>
            <a:r>
              <a:rPr b="0" lang="ru-RU" sz="3200" spc="-1" strike="noStrike">
                <a:solidFill>
                  <a:srgbClr val="000000"/>
                </a:solidFill>
                <a:latin typeface="Arial Unicode MS"/>
              </a:rPr>
              <a:t> пересекутся в точке O –центре второй проекц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Unicode MS"/>
              </a:rPr>
              <a:t>Последовательно выполненные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 Unicode MS"/>
              </a:rPr>
              <a:t>эти две проекции дают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 Unicode MS"/>
              </a:rPr>
              <a:t>требуемый результа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 rot="13171800">
            <a:off x="6006600" y="4459320"/>
            <a:ext cx="723600" cy="519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6298474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6298474"/>
              </a:path>
            </a:pathLst>
          </a:custGeom>
          <a:noFill/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70B0B-E234-47FE-A543-2F5D68E83EB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Выво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0" y="866880"/>
            <a:ext cx="9144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икакая величина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пределяемая только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ремя точками на прямой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е может быть инвариантной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и проектирован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0A102-FAED-4870-B74A-7B52A86140A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Четыре точки на прямо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709560"/>
            <a:ext cx="9144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усть на прямой дано четыре точки A, B, C, D, которые при проектировании переходят в точки 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'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'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'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'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другой прям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A5C99-1559-4D9E-8110-DBF0B9C80A7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Четыре точки на прямо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0" y="709560"/>
            <a:ext cx="91440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усть на прямой дано четыре точки A, B, C, D, которые при проектировании переходят в точки 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'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'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'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'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другой прям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огда некоторая величина, называем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двойным (сложным) отношением</a:t>
            </a: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этих четырех точек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 проектировании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 изменяет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ислового значени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A708B-3A72-4752-88EF-14CBB368B21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Четыре точки на прямо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0" y="709560"/>
            <a:ext cx="9144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 этом состоит математическое свойство системы четырех точек на прям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Это свойство носит инвариантный характер и его можно обнаружить во всякой проекции рассматриваемой прям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5E760-3610-42FE-AAE0-8DAD93526C5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Четыре точки на прямо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0" y="709560"/>
            <a:ext cx="91440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 этом состоит математическое свойство системы четырех точек на прям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Это свойство носит инвариантный характер и его можно обнаружить во всякой проекции рассматриваемой прям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войное отношение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е есть ни расстояние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и отношение расстояний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 есть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отношение двух таких отношений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B3C4E-0AB2-4848-BC54-D20C4276226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Четыре точки на прямо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0" y="709560"/>
            <a:ext cx="914400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оставим отнош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3073320" y="1276200"/>
          <a:ext cx="874800" cy="117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73320" y="1276200"/>
                    <a:ext cx="874800" cy="117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8" name=""/>
          <p:cNvGraphicFramePr/>
          <p:nvPr/>
        </p:nvGraphicFramePr>
        <p:xfrm>
          <a:off x="5146560" y="1260360"/>
          <a:ext cx="951120" cy="1179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46560" y="1260360"/>
                    <a:ext cx="951120" cy="117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EB9B7-510D-4381-AF56-34DE9C12BD3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Четыре точки на прямо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0" y="709560"/>
            <a:ext cx="9144000" cy="606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оставим отнош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огда их отнош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определению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есть</a:t>
            </a:r>
            <a:br>
              <a:rPr sz="3200"/>
            </a:b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двойное отношение</a:t>
            </a:r>
            <a:br>
              <a:rPr sz="3200"/>
            </a:b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четырех точек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, B, C, D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зятых в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указанном выше порядк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3073320" y="1276200"/>
          <a:ext cx="874800" cy="117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73320" y="1276200"/>
                    <a:ext cx="874800" cy="117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" name=""/>
          <p:cNvGraphicFramePr/>
          <p:nvPr/>
        </p:nvGraphicFramePr>
        <p:xfrm>
          <a:off x="5146560" y="1260360"/>
          <a:ext cx="951120" cy="1179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46560" y="1260360"/>
                    <a:ext cx="951120" cy="117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" name=""/>
          <p:cNvGraphicFramePr/>
          <p:nvPr/>
        </p:nvGraphicFramePr>
        <p:xfrm>
          <a:off x="3089160" y="2976480"/>
          <a:ext cx="2737080" cy="1179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89160" y="2976480"/>
                    <a:ext cx="2737080" cy="117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7B725-7C55-4212-B672-5FCA50C322C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бедимся, что двойное отношение четырех точек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инвариантно при проектировани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81107-FB37-48A4-A6A0-FB7BF23391E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лина отрезка прямой –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воего рода «ключ» к метрической геометр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06C32-7BC4-4561-89F2-DEFD5A53EEC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4422600" y="3489480"/>
            <a:ext cx="4721400" cy="33685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0" y="0"/>
            <a:ext cx="91440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бедимся, что двойное отношение четырех точек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инвариантно при проектировани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то значит, что если A, B, C, D и 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'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'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'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‘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две четверки точек на двух прямых и между ними установлено проективное соответствие, то тогда справедливо равенст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479520" y="3662280"/>
          <a:ext cx="4674960" cy="1179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79520" y="3662280"/>
                    <a:ext cx="4674960" cy="117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9A503-602E-48DC-AA66-AEC773CFDB3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9144000" cy="362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Доказательств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лощадь треугольника равн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) половине произведения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основания на высот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) половине произведения двух сторон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на синус угла между ни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4422600" y="3489480"/>
            <a:ext cx="4721400" cy="3368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871C1-49E0-4E69-927D-62B5DEF111B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5" name=""/>
          <p:cNvGraphicFramePr/>
          <p:nvPr/>
        </p:nvGraphicFramePr>
        <p:xfrm>
          <a:off x="0" y="0"/>
          <a:ext cx="8817120" cy="68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817120" cy="68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7" name=""/>
          <p:cNvGraphicFramePr/>
          <p:nvPr/>
        </p:nvGraphicFramePr>
        <p:xfrm>
          <a:off x="0" y="777960"/>
          <a:ext cx="8893080" cy="684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777960"/>
                    <a:ext cx="8893080" cy="68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9" name=""/>
          <p:cNvGraphicFramePr/>
          <p:nvPr/>
        </p:nvGraphicFramePr>
        <p:xfrm>
          <a:off x="0" y="1514520"/>
          <a:ext cx="8931240" cy="684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1514520"/>
                    <a:ext cx="8931240" cy="68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1" name=""/>
          <p:cNvGraphicFramePr/>
          <p:nvPr/>
        </p:nvGraphicFramePr>
        <p:xfrm>
          <a:off x="0" y="2259000"/>
          <a:ext cx="9007560" cy="684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2259000"/>
                    <a:ext cx="9007560" cy="68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3" name="" descr=""/>
          <p:cNvPicPr/>
          <p:nvPr/>
        </p:nvPicPr>
        <p:blipFill>
          <a:blip r:embed="rId9"/>
          <a:stretch/>
        </p:blipFill>
        <p:spPr>
          <a:xfrm>
            <a:off x="4422600" y="3489480"/>
            <a:ext cx="4721400" cy="3368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DCE28-D99D-4558-BA4B-8AAEDAF924C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4422600" y="3489480"/>
            <a:ext cx="4721400" cy="3368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5" name=""/>
          <p:cNvGraphicFramePr/>
          <p:nvPr/>
        </p:nvGraphicFramePr>
        <p:xfrm>
          <a:off x="0" y="1457280"/>
          <a:ext cx="9236160" cy="1749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457280"/>
                    <a:ext cx="9236160" cy="17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7" name=""/>
          <p:cNvGraphicFramePr/>
          <p:nvPr/>
        </p:nvGraphicFramePr>
        <p:xfrm>
          <a:off x="0" y="3195720"/>
          <a:ext cx="5054760" cy="1179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3195720"/>
                    <a:ext cx="5054760" cy="117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9" name=""/>
          <p:cNvGraphicFramePr/>
          <p:nvPr/>
        </p:nvGraphicFramePr>
        <p:xfrm>
          <a:off x="0" y="0"/>
          <a:ext cx="4599000" cy="11793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0" y="0"/>
                    <a:ext cx="4599000" cy="117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088F3-886C-498F-A8B5-C2B1B50387D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0"/>
            <a:ext cx="9144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аким образом, двойное отношение точек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, B, C, D зависит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только от угло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образованных в точке O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трезками OA, OB, OC, OD.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62C9D-B82D-4F55-AE4B-E288E1A62CB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0"/>
            <a:ext cx="91440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аким образом, двойное отношение точек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A, B, C, D зависит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только от углов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образованных в точке O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резками OA, OB, OC, OD.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ак как эти углы – одни и те же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овы бы ни были четыре точки 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'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B?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'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'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'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которые при проектировании переходят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A, B, C, D, то ясно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то двойное отношение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 изменяется при проектирован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9D9DD-D552-4806-854F-8B231FFC26A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0"/>
            <a:ext cx="9144000" cy="60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ледовательно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ряду с двойным отношением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етырёх точек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ссматривается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войное отношение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етырёх прямых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ходящих через точку О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то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ношение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означается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 и рав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2236680" y="4654440"/>
          <a:ext cx="4826160" cy="140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36680" y="4654440"/>
                    <a:ext cx="4826160" cy="14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41CCA-372E-479D-B091-681D2CDC8361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0" y="0"/>
            <a:ext cx="9144000" cy="29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сл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очки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ежат на прямых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то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 =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2549520" y="1974960"/>
            <a:ext cx="4030560" cy="4106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D6C5D-86A6-420F-A029-FEF1ED849775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0"/>
            <a:ext cx="9144000" cy="348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сл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очки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'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'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'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'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лучены пересечением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дной четвёрки прямых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то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'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'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'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'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 =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 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2664000" y="2263680"/>
            <a:ext cx="3801960" cy="417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8CF81-81ED-4B32-8EF4-BD5C1C74E979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9144000" cy="348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сл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ямые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'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'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'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'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ектируют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дну четвёрку точек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то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'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'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'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'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 =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 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2303640" y="2521080"/>
            <a:ext cx="4518000" cy="4084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B7D3D-AA71-406C-B79A-0AFD3A903E78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521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лина отрезка прямой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воего рода «ключ» к метрической геометр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опро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уществует ли в проективной геометрии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дно основное понятие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 помощью которого могут быть выражены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се отличительные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ективные свойства фигур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68F31-AE8E-46E6-9F51-6151C518A64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91440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о сих пор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ссматривая двойное отношение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четырех точек A, B, C, D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сположенных на прямой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едполагали, что это отношение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оставлено из положительных отрезк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C5751-4A16-4FB2-B02B-F72F3C7BD3A2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9144000" cy="41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о сих пор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ссматривая двойное отношение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четырех точек A, B, C, D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сположенных на прямой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едполагали, что это отношение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оставлено из положительных отрезк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Изменим определ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2666C-85A8-4B88-9B06-308A65982106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9144000" cy="47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о сих пор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ссматривая двойное отношение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четырех точек A, B, C, D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сположенных на прямой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едполагали, что это отношение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оставлено из положительных отрезк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Изменим определ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усть одно двух направлений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ямой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 положительно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4AA7A-9164-4207-8EFD-B253DB8709D0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0"/>
            <a:ext cx="9144000" cy="67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о сих пор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ссматривая двойное отношение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четырех точек A, B, C, D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сположенных на прямой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едполагали, что это отношение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оставлено из положительных отрезк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Изменим определ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усть одно двух направлений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ямой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 положительно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огда все отрезки, отсчитываемые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этом направлени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–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положительны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отсчитываемые в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противоположном направлени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–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отрицательны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9ADD1-1063-4C13-B81E-CE812EFAC7EA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9144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еперь определим двойное отношение точек A, B, C, D (</a:t>
            </a: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взятых в указанном порядк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по формул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2286000" y="1270080"/>
          <a:ext cx="4189320" cy="1181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1270080"/>
                    <a:ext cx="4189320" cy="118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ADB7F-F6F0-4460-96EA-023DE2713A69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0"/>
            <a:ext cx="91440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еперь определим двойное отношение точек A, B, C, D (</a:t>
            </a: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взятых в указанном порядк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по формул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наки чисел CA, CB, DA, DB берутся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 соответствии с указанным условие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2286000" y="1270080"/>
          <a:ext cx="4189320" cy="1181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1270080"/>
                    <a:ext cx="4189320" cy="118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E4D24-B2FC-49CE-9489-6C386E6C1592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0"/>
            <a:ext cx="9144000" cy="56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еперь определим двойное отношение точек A, B, C, D (</a:t>
            </a: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взятых в указанном порядк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по формул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наки чисел CA, CB, DA, DB берутся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 соответствии с указанным условие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и изменении направления на прямой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принятого за положительное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еняются только знаки всех четырех отрезк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2286000" y="1270080"/>
          <a:ext cx="4189320" cy="1181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1270080"/>
                    <a:ext cx="4189320" cy="118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1F7DF-9196-4900-A988-175E4A65BEA4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0"/>
            <a:ext cx="9144000" cy="62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еперь определим двойное отношение точек A, B, C, D (</a:t>
            </a: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взятых в указанном порядк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по формул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наки чисел CA, CB, DA, DB берутся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 соответствии с указанным условие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и изменении направления на прямой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принятого за положительное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еняются только знаки всех четырех отрезк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этому значение (ABCD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е зависит от выбора направл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2286000" y="1270080"/>
          <a:ext cx="4189320" cy="1181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1270080"/>
                    <a:ext cx="4189320" cy="118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FC560-1420-4E84-918C-1C3BF847F954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0" y="0"/>
            <a:ext cx="9144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нак (ABCD) зависит от того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зделена ли пара точек A, B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арой точек C, D или нет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862AA-5CE7-42CE-A077-EC645F799381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0"/>
            <a:ext cx="9144000" cy="31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нак (ABCD) зависит от того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зделена ли пара точек A, B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арой точек C, D или нет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войство «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разделяться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» инвариантно относительно проектирова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E4843-CA57-473C-A255-7FBDFA7F27BF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16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Две точки на прямо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Пусть две точки A и B расположены на одной прямой.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519120" y="2079720"/>
            <a:ext cx="7604280" cy="34131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FC95C-008C-4231-9C39-E2D6254D6A3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0" y="0"/>
            <a:ext cx="9144000" cy="62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нак (ABCD) зависит от того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зделена ли пара точек A, B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арой точек C, D или нет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войство «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разделяться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» инвариантно относительно проектирова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этому понимаемое в новом смысле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(как величина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способная иметь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от или иной знак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войное отношение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(ABCD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акже инвариантн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936960" y="3371760"/>
            <a:ext cx="5207040" cy="104472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3951360" y="5105520"/>
            <a:ext cx="5192640" cy="104760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 flipH="1">
            <a:off x="4506840" y="4494240"/>
            <a:ext cx="2338560" cy="0"/>
          </a:xfrm>
          <a:prstGeom prst="line">
            <a:avLst/>
          </a:prstGeom>
          <a:ln w="19080">
            <a:solidFill>
              <a:srgbClr val="0000ff"/>
            </a:solidFill>
            <a:miter/>
            <a:head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694120" y="4624560"/>
            <a:ext cx="1150920" cy="0"/>
          </a:xfrm>
          <a:prstGeom prst="line">
            <a:avLst/>
          </a:prstGeom>
          <a:ln w="19080">
            <a:solidFill>
              <a:srgbClr val="0000ff"/>
            </a:solidFill>
            <a:miter/>
            <a:head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4506840" y="4767120"/>
            <a:ext cx="3500640" cy="0"/>
          </a:xfrm>
          <a:prstGeom prst="line">
            <a:avLst/>
          </a:prstGeom>
          <a:ln w="19080">
            <a:solidFill>
              <a:srgbClr val="0000ff"/>
            </a:solidFill>
            <a:miter/>
            <a:head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5683320" y="4898880"/>
            <a:ext cx="2324160" cy="0"/>
          </a:xfrm>
          <a:prstGeom prst="line">
            <a:avLst/>
          </a:prstGeom>
          <a:ln w="19080">
            <a:solidFill>
              <a:srgbClr val="0000ff"/>
            </a:solidFill>
            <a:miter/>
            <a:head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4506480" y="6270480"/>
            <a:ext cx="1187640" cy="0"/>
          </a:xfrm>
          <a:prstGeom prst="line">
            <a:avLst/>
          </a:prstGeom>
          <a:ln w="19080">
            <a:solidFill>
              <a:srgbClr val="0000ff"/>
            </a:solidFill>
            <a:miter/>
            <a:head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5694120" y="6400800"/>
            <a:ext cx="115092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4506840" y="6543720"/>
            <a:ext cx="3500640" cy="0"/>
          </a:xfrm>
          <a:prstGeom prst="line">
            <a:avLst/>
          </a:prstGeom>
          <a:ln w="19080">
            <a:solidFill>
              <a:srgbClr val="0000ff"/>
            </a:solidFill>
            <a:miter/>
            <a:head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6846840" y="6675480"/>
            <a:ext cx="1160640" cy="0"/>
          </a:xfrm>
          <a:prstGeom prst="line">
            <a:avLst/>
          </a:prstGeom>
          <a:ln w="19080">
            <a:solidFill>
              <a:srgbClr val="0000ff"/>
            </a:solidFill>
            <a:miter/>
            <a:head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0D068-BA85-49BD-A593-E6C421FD5699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9144000" cy="10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На прямой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выберем начальную точку 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078B9-959A-4758-8944-EE4E7AF2770C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0"/>
            <a:ext cx="914400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На прямой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выберем начальную точку 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Сопоставим каждой точке на прямой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 качестве координаты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её расстояние от O (с учётом знака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82D4A-A5E9-4B9D-A06E-007F68E7389A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9144000" cy="369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На прямой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выберем начальную точку 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Сопоставим каждой точке на прямой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 качестве координаты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её расстояние от O (с учётом знака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Обозначим координаты A, B, C, D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через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соответствен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0" y="3560760"/>
            <a:ext cx="9144000" cy="3102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89642-815D-424B-B558-5C6FD058916A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огда получим формул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0" y="833400"/>
          <a:ext cx="815040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833400"/>
                    <a:ext cx="815040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8" name=""/>
          <p:cNvGraphicFramePr/>
          <p:nvPr/>
        </p:nvGraphicFramePr>
        <p:xfrm>
          <a:off x="4191120" y="2322360"/>
          <a:ext cx="3541680" cy="1295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91120" y="2322360"/>
                    <a:ext cx="3541680" cy="129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D5AEA-05D5-4482-9FCF-85432A7F209E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0" y="0"/>
            <a:ext cx="9144000" cy="370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Если (ABCD) = −1, так чт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о точки C и D делят отрезок AB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внутренн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внешн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в одном и том же отношении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3083040" y="550800"/>
          <a:ext cx="2627280" cy="1181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83040" y="550800"/>
                    <a:ext cx="2627280" cy="118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85938-4104-40C7-81C5-643421978604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0"/>
            <a:ext cx="9144000" cy="711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Если (ABCD) = −1, так чт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о точки C и D делят отрезок AB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внутренн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внешн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в одном и том же отношении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 этом случае говорят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что C и D делят отрезок AB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гармоническ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 каждая из точек C и D считается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гармонически сопряженной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с другой точкой относительно пары точек A, B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3083040" y="550800"/>
          <a:ext cx="2627280" cy="1181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83040" y="550800"/>
                    <a:ext cx="2627280" cy="118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1A9F0-1585-4375-BF16-E734FF894A98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0" y="0"/>
            <a:ext cx="9144000" cy="75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Если (ABCD) = −1, так чт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о точки C и D делят отрезок AB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внутренн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внешн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в одном и том же отношении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 этом случае говорят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что C и D делят отрезок AB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гармоническ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 каждая из точек C и D считается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гармонически сопряженной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с другой точкой относительно пары точек A, B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Если (ABCD) = 1, то точки C и D (или A и B) совпадаю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3083040" y="550800"/>
          <a:ext cx="2627280" cy="1181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83040" y="550800"/>
                    <a:ext cx="2627280" cy="118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56C24-D38F-4327-911B-147E3FD24E63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123840" y="1500120"/>
            <a:ext cx="9144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войное отношение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ависит от порядка нумерации точек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 может отличаться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т порядка следования точек на прямой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DBF84-0FD8-4F74-AC97-2FDAA7FD41B9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0" y="0"/>
            <a:ext cx="91440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Unicode MS"/>
              </a:rPr>
              <a:t>Четыре точки A, B, C, D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 Unicode MS"/>
              </a:rPr>
              <a:t>могут быть переставлены между собой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 Unicode MS"/>
              </a:rPr>
              <a:t>4 · 3 · 2 · 1 = 24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 Unicode MS"/>
              </a:rPr>
              <a:t>различными способами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 Unicode MS"/>
              </a:rPr>
              <a:t>и каждой перестановке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 Unicode MS"/>
              </a:rPr>
              <a:t>соответствует некоторое значение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 Unicode MS"/>
              </a:rPr>
              <a:t>двойного отнош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DB103-0510-4753-8611-8483D592F40A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620800" y="3282840"/>
            <a:ext cx="6523200" cy="3575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0"/>
            <a:ext cx="9144000" cy="16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Три точки на прямо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Пусть три точки A, B и C расположены на одной прямой.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C740C-AC78-41A8-B328-28AA0031E29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0" y="0"/>
            <a:ext cx="9144000" cy="67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Unicode MS"/>
              </a:rPr>
              <a:t>Четыре точки A, B, C, D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 Unicode MS"/>
              </a:rPr>
              <a:t>могут быть переставлены между собой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 Unicode MS"/>
              </a:rPr>
              <a:t>4 · 3 · 2 · 1 = 24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 Unicode MS"/>
              </a:rPr>
              <a:t>различными способами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 Unicode MS"/>
              </a:rPr>
              <a:t>и каждой перестановке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 Unicode MS"/>
              </a:rPr>
              <a:t>соответствует некоторое значение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 Unicode MS"/>
              </a:rPr>
              <a:t>двойного отнош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Unicode MS"/>
              </a:rPr>
              <a:t>Некоторым перестановкам соответствует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 Unicode MS"/>
              </a:rPr>
              <a:t>то же числовое значение двойного отношения, что и начальной перестановке A, B, C, 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Arial Unicode MS"/>
              </a:rPr>
              <a:t>Пример</a:t>
            </a:r>
            <a:r>
              <a:rPr b="0" lang="ru-RU" sz="3200" spc="-1" strike="noStrike">
                <a:solidFill>
                  <a:srgbClr val="000000"/>
                </a:solidFill>
                <a:latin typeface="Arial Unicode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 Unicode MS"/>
              </a:rPr>
              <a:t>(ABCD) = (BADC) = (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CDAB</a:t>
            </a:r>
            <a:r>
              <a:rPr b="0" lang="ru-RU" sz="3200" spc="-1" strike="noStrike">
                <a:solidFill>
                  <a:srgbClr val="000000"/>
                </a:solidFill>
                <a:latin typeface="Arial Unicode MS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 = (DCBA)</a:t>
            </a:r>
            <a:r>
              <a:rPr b="0" lang="ru-RU" sz="32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84BD6-EAE0-4940-9699-4D764862D947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0" y="0"/>
            <a:ext cx="9144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Unicode MS"/>
              </a:rPr>
              <a:t>Итак, если (ABCD) = </a:t>
            </a:r>
            <a:r>
              <a:rPr b="0" lang="el-GR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λ</a:t>
            </a:r>
            <a:r>
              <a:rPr b="0" lang="ru-RU" sz="3200" spc="-1" strike="noStrike">
                <a:solidFill>
                  <a:srgbClr val="000000"/>
                </a:solidFill>
                <a:latin typeface="Arial Unicode MS"/>
              </a:rPr>
              <a:t>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 Unicode MS"/>
              </a:rPr>
              <a:t>то двойное отношение (BACD) 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=</a:t>
            </a:r>
            <a:r>
              <a:rPr b="0" lang="ru-RU" sz="3200" spc="-1" strike="noStrike">
                <a:solidFill>
                  <a:srgbClr val="000000"/>
                </a:solidFill>
                <a:latin typeface="Arial Unicode MS"/>
              </a:rPr>
              <a:t> 1/</a:t>
            </a:r>
            <a:r>
              <a:rPr b="0" lang="el-GR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λ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 Unicode MS"/>
              </a:rPr>
              <a:t>Тогда как (DACB) = 1 – </a:t>
            </a:r>
            <a:r>
              <a:rPr b="0" lang="el-GR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56F4A-56C5-490F-9FFB-37F37E5F1081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0" y="0"/>
            <a:ext cx="9144000" cy="268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Unicode MS"/>
              </a:rPr>
              <a:t>Итак, если (ABCD) = </a:t>
            </a:r>
            <a:r>
              <a:rPr b="0" lang="el-GR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λ</a:t>
            </a:r>
            <a:r>
              <a:rPr b="0" lang="ru-RU" sz="3200" spc="-1" strike="noStrike">
                <a:solidFill>
                  <a:srgbClr val="000000"/>
                </a:solidFill>
                <a:latin typeface="Arial Unicode MS"/>
              </a:rPr>
              <a:t>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 Unicode MS"/>
              </a:rPr>
              <a:t>то двойное отношение (BACD) 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=</a:t>
            </a:r>
            <a:r>
              <a:rPr b="0" lang="ru-RU" sz="3200" spc="-1" strike="noStrike">
                <a:solidFill>
                  <a:srgbClr val="000000"/>
                </a:solidFill>
                <a:latin typeface="Arial Unicode MS"/>
              </a:rPr>
              <a:t> 1/</a:t>
            </a:r>
            <a:r>
              <a:rPr b="0" lang="el-GR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λ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 Unicode MS"/>
              </a:rPr>
              <a:t>Тогда как (DACB) = 1 – </a:t>
            </a:r>
            <a:r>
              <a:rPr b="0" lang="el-GR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 Unicode MS"/>
              </a:rPr>
              <a:t>(</a:t>
            </a:r>
            <a:r>
              <a:rPr b="1" lang="ru-RU" sz="3200" spc="-1" strike="noStrike">
                <a:solidFill>
                  <a:srgbClr val="0000ff"/>
                </a:solidFill>
                <a:latin typeface="Arial Unicode MS"/>
              </a:rPr>
              <a:t>Показать это дома</a:t>
            </a:r>
            <a:r>
              <a:rPr b="1" lang="en-US" sz="3200" spc="-1" strike="noStrike">
                <a:solidFill>
                  <a:srgbClr val="0000ff"/>
                </a:solidFill>
                <a:latin typeface="Arial Unicode MS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7A590-7DE3-412F-9399-48B3B14A385F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0" y="0"/>
            <a:ext cx="9144000" cy="59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Unicode MS"/>
              </a:rPr>
              <a:t>Итак, если (ABCD) = </a:t>
            </a:r>
            <a:r>
              <a:rPr b="0" lang="el-GR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λ</a:t>
            </a:r>
            <a:r>
              <a:rPr b="0" lang="ru-RU" sz="3200" spc="-1" strike="noStrike">
                <a:solidFill>
                  <a:srgbClr val="000000"/>
                </a:solidFill>
                <a:latin typeface="Arial Unicode MS"/>
              </a:rPr>
              <a:t>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 Unicode MS"/>
              </a:rPr>
              <a:t>то двойное отношение (BACD) 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=</a:t>
            </a:r>
            <a:r>
              <a:rPr b="0" lang="ru-RU" sz="3200" spc="-1" strike="noStrike">
                <a:solidFill>
                  <a:srgbClr val="000000"/>
                </a:solidFill>
                <a:latin typeface="Arial Unicode MS"/>
              </a:rPr>
              <a:t> 1/</a:t>
            </a:r>
            <a:r>
              <a:rPr b="0" lang="el-GR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λ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 Unicode MS"/>
              </a:rPr>
              <a:t>Тогда как (DACB) = 1 – </a:t>
            </a:r>
            <a:r>
              <a:rPr b="0" lang="el-GR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 Unicode MS"/>
              </a:rPr>
              <a:t>(</a:t>
            </a:r>
            <a:r>
              <a:rPr b="1" lang="ru-RU" sz="3200" spc="-1" strike="noStrike">
                <a:solidFill>
                  <a:srgbClr val="0000ff"/>
                </a:solidFill>
                <a:latin typeface="Arial Unicode MS"/>
              </a:rPr>
              <a:t>Показать это дома</a:t>
            </a:r>
            <a:r>
              <a:rPr b="1" lang="en-US" sz="3200" spc="-1" strike="noStrike">
                <a:solidFill>
                  <a:srgbClr val="0000ff"/>
                </a:solidFill>
                <a:latin typeface="Arial Unicode MS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Unicode MS"/>
              </a:rPr>
              <a:t>А вообще существует всего 6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 Unicode MS"/>
              </a:rPr>
              <a:t>различных значений двойного отноше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2647800" y="3295800"/>
          <a:ext cx="3884760" cy="243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47800" y="3295800"/>
                    <a:ext cx="3884760" cy="24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C0D20-3867-446B-B201-C828F1E4F4DB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0" y="0"/>
            <a:ext cx="9144000" cy="68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Unicode MS"/>
              </a:rPr>
              <a:t>Итак, если (ABCD) = </a:t>
            </a:r>
            <a:r>
              <a:rPr b="0" lang="el-GR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λ</a:t>
            </a:r>
            <a:r>
              <a:rPr b="0" lang="ru-RU" sz="3200" spc="-1" strike="noStrike">
                <a:solidFill>
                  <a:srgbClr val="000000"/>
                </a:solidFill>
                <a:latin typeface="Arial Unicode MS"/>
              </a:rPr>
              <a:t>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 Unicode MS"/>
              </a:rPr>
              <a:t>то двойное отношение (BACD) 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=</a:t>
            </a:r>
            <a:r>
              <a:rPr b="0" lang="ru-RU" sz="3200" spc="-1" strike="noStrike">
                <a:solidFill>
                  <a:srgbClr val="000000"/>
                </a:solidFill>
                <a:latin typeface="Arial Unicode MS"/>
              </a:rPr>
              <a:t> 1/</a:t>
            </a:r>
            <a:r>
              <a:rPr b="0" lang="el-GR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λ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 Unicode MS"/>
              </a:rPr>
              <a:t>Тогда как (DACB) = 1 – </a:t>
            </a:r>
            <a:r>
              <a:rPr b="0" lang="el-GR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 Unicode MS"/>
              </a:rPr>
              <a:t>(</a:t>
            </a:r>
            <a:r>
              <a:rPr b="1" lang="ru-RU" sz="3200" spc="-1" strike="noStrike">
                <a:solidFill>
                  <a:srgbClr val="0000ff"/>
                </a:solidFill>
                <a:latin typeface="Arial Unicode MS"/>
              </a:rPr>
              <a:t>Показать это дома</a:t>
            </a:r>
            <a:r>
              <a:rPr b="1" lang="en-US" sz="3200" spc="-1" strike="noStrike">
                <a:solidFill>
                  <a:srgbClr val="0000ff"/>
                </a:solidFill>
                <a:latin typeface="Arial Unicode MS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Unicode MS"/>
              </a:rPr>
              <a:t>А вообще существует всего 6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 Unicode MS"/>
              </a:rPr>
              <a:t>различных значений двойного отноше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 Unicode MS"/>
              </a:rPr>
              <a:t>(Дома найти соответствующий вид</a:t>
            </a:r>
            <a:br>
              <a:rPr sz="3200"/>
            </a:br>
            <a:r>
              <a:rPr b="1" lang="ru-RU" sz="3200" spc="-1" strike="noStrike">
                <a:solidFill>
                  <a:srgbClr val="0000ff"/>
                </a:solidFill>
                <a:latin typeface="Arial Unicode MS"/>
              </a:rPr>
              <a:t>двойного отношения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2647800" y="3295800"/>
          <a:ext cx="3884760" cy="243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47800" y="3295800"/>
                    <a:ext cx="3884760" cy="24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5F3DC-8F7E-41F4-A145-C31A89E0D86E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0" y="0"/>
            <a:ext cx="9144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Можно определить двойное отношение четырех коаксиальных плоскостей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(четырех плоскостей, пересекающихся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по одной прямой, или «оси»)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926E5-F698-46B4-8981-3E4549E0C26C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0" y="0"/>
            <a:ext cx="91440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Unicode MS"/>
              </a:rPr>
              <a:t>Можно определить двойное отношение четырех коаксиальных плоскостей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 Unicode MS"/>
              </a:rPr>
              <a:t>(четырех плоскостей, пересекающихся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 Unicode MS"/>
              </a:rPr>
              <a:t>по одной прямой, или «оси»)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Unicode MS"/>
              </a:rPr>
              <a:t>Если некоторая прямая пересекает плоскости в четырех точках, то двойное отношение этих точек всегда будет иметь одно и то же значение, независимо от выбора прямо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8D85B-9E4D-44D4-B1C3-B5407B6D7C2F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0" y="0"/>
            <a:ext cx="9144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Unicode MS"/>
              </a:rPr>
              <a:t>Следовательно, полученное значение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 Unicode MS"/>
              </a:rPr>
              <a:t>можно назвать двойным отношением рассматриваемых четырех плоскостей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999B3-511D-410B-9825-79E27042D6A0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0" y="0"/>
            <a:ext cx="91440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Unicode MS"/>
              </a:rPr>
              <a:t>Следовательно, полученное значение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 Unicode MS"/>
              </a:rPr>
              <a:t>можно назвать двойным отношением рассматриваемых четырех плоскостей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Unicode MS"/>
              </a:rPr>
              <a:t>Также можно назвать двойным отношением четырех коаксиальных плоскостей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 Unicode MS"/>
              </a:rPr>
              <a:t>двойное отношение четырех прямых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 Unicode MS"/>
              </a:rPr>
              <a:t>по которым они пересекаются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 Unicode MS"/>
              </a:rPr>
              <a:t>произвольной пятой плоскость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A41B7-D140-4CE5-8FC8-51FAE4523FE0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0" y="526104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Unicode MS"/>
              </a:rPr>
              <a:t>Двойное отношение четырех плоскост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2335320" y="0"/>
            <a:ext cx="4892400" cy="5208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E4616-93B2-4E5A-9576-05A12759A086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620800" y="3282840"/>
            <a:ext cx="6523200" cy="3575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0" y="0"/>
            <a:ext cx="9144000" cy="25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Три точки на прямо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Пусть три точки A, B и C расположены на одной прямой. Проектирование, изменяет расстояния AB, BC и отношение AB / BC (в общем случае)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CAFDF-B0AD-4BB8-B111-F892D08E9DA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0" y="0"/>
            <a:ext cx="9144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На основе двойного отношения четырех плоскостей возникает вопрос о том, нельзя ли дать определение проективного преобразования трехмерного пространства самого на себя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435B2-1079-440C-ACD4-0AEEB4982759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0" y="0"/>
            <a:ext cx="91440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На основе двойного отношения четырех плоскостей возникает вопрос о том, нельзя ли дать определение проективного преобразования трехмерного пространства самого на себя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Определение с помощью центральной проекции, очевидно, не обобщается непосредственно от случая двух измерений на случай трех измере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ADC74-7C55-40E0-8EE4-F73DB36955FC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0" y="0"/>
            <a:ext cx="9144000" cy="804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Unicode MS"/>
              </a:rPr>
              <a:t>На основе двойного отношения четырех плоскостей возникает вопрос о том, нельзя ли дать определение проективного преобразования трехмерного пространства самого на себя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Unicode MS"/>
              </a:rPr>
              <a:t>Определение с помощью центральной проекции, очевидно, не обобщается непосредственно от случая двух измерений на случай трех измере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Unicode MS"/>
              </a:rPr>
              <a:t>Но можно доказать, что каждое непрерывное преобразование плоскости самой на себ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Unicode MS"/>
              </a:rPr>
              <a:t>взаимно однозначно переводящее точки в точки и прямые в прямые, есть проективно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C6190-F2D9-4D61-B327-327656EA1C9B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0" y="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Поэтому можно ввести следующее определение для случая трех измерени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38732-3628-4D8E-91A7-BEE1E7D36103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9144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Поэтому можно ввести следующее определение для случая трех измерени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Проективным преобразовани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пространства называется непрерывное взаимно однозначное преобразование, переводящее прямые линии в прямые лин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214E2-B6C5-477A-A370-337DECDC12CA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0" y="0"/>
            <a:ext cx="914400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Поэтому можно ввести следующее определение для случая трех измерени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Проективным преобразовани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пространства называется непрерывное взаимно однозначное преобразование, переводящее прямые линии в прямые лин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Можно показать, что такие преобразования оставляют значения двойных отношений неизменны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C6B5E-7CD8-42A8-9A7E-E09BFD7CF775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0"/>
            <a:ext cx="9144000" cy="369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Приме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 прямой даны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ри различные точки A, B, C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 координатами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4F04F-48B8-4957-8122-5DC9B4FE2077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0" y="0"/>
            <a:ext cx="9144000" cy="49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Приме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 прямой даны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ри различные точки A, B, C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 координатами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ребуется найти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четвертую точку D таким образом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чтобы выполнялось равенство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BCD) =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где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задано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5AEFC-C9BA-45E9-94A5-1CA3784D0847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адача имеет одно и только одно реш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7CAEC-06AA-4991-849A-25134CA835AB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адача имеет одно и только одно реш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усть x – координата искомой точки D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огда уравн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меет ровно одно решени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2906640" y="1386000"/>
          <a:ext cx="373212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06640" y="1386000"/>
                    <a:ext cx="373212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71C1B-9CFB-4726-AA4D-C520FE1AE01F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620800" y="3282840"/>
            <a:ext cx="6523200" cy="35751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0" y="0"/>
            <a:ext cx="9144000" cy="589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Три точки на прямо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Пусть три точки A, B и C расположены на одной прямой. Проектирование, изменяет расстояния AB, BC и отношение AB / BC (в общем случае)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100" spc="-1" strike="noStrike" u="sng">
                <a:solidFill>
                  <a:srgbClr val="000000"/>
                </a:solidFill>
                <a:uFillTx/>
                <a:latin typeface="Arial"/>
              </a:rPr>
              <a:t>Любые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100"/>
            </a:b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три точки A, B, C на прямой </a:t>
            </a:r>
            <a:r>
              <a:rPr b="0" i="1" lang="ru-RU" sz="3100" spc="-1" strike="noStrike">
                <a:solidFill>
                  <a:srgbClr val="000000"/>
                </a:solidFill>
                <a:latin typeface="Times New Roman"/>
              </a:rPr>
              <a:t>l</a:t>
            </a:r>
            <a:br>
              <a:rPr sz="3100"/>
            </a:b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можно перевести</a:t>
            </a:r>
            <a:br>
              <a:rPr sz="3100"/>
            </a:b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i="1" lang="ru-RU" sz="3100" spc="-1" strike="noStrike" u="sng">
                <a:solidFill>
                  <a:srgbClr val="000000"/>
                </a:solidFill>
                <a:uFillTx/>
                <a:latin typeface="Arial"/>
              </a:rPr>
              <a:t>любые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100"/>
            </a:b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три точки A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 Unicode MS"/>
              </a:rPr>
              <a:t>'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, B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 Unicode MS"/>
              </a:rPr>
              <a:t>'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, C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 Unicode MS"/>
              </a:rPr>
              <a:t>'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 на прямой  </a:t>
            </a:r>
            <a:r>
              <a:rPr b="0" i="1" lang="ru-RU" sz="31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 Unicode MS"/>
              </a:rPr>
              <a:t>' </a:t>
            </a:r>
            <a:br>
              <a:rPr sz="3100"/>
            </a:b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двумя</a:t>
            </a:r>
            <a:br>
              <a:rPr sz="3100"/>
            </a:b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последовательными</a:t>
            </a:r>
            <a:br>
              <a:rPr sz="3100"/>
            </a:b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проектированиями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77455-5CCE-4359-8B11-85BD0422DC1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0" y="0"/>
            <a:ext cx="9144000" cy="528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адача имеет одно и только одно реш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усть x – координата искомой точки D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огда уравн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меет ровно одно решение. Обозначи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2906640" y="1386000"/>
          <a:ext cx="373212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06640" y="1386000"/>
                    <a:ext cx="373212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1" name=""/>
          <p:cNvGraphicFramePr/>
          <p:nvPr/>
        </p:nvGraphicFramePr>
        <p:xfrm>
          <a:off x="3171960" y="3092400"/>
          <a:ext cx="2361960" cy="1295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1960" y="3092400"/>
                    <a:ext cx="236196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00AEF-4EE2-4135-A881-B5CAC221FCE2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0" y="0"/>
            <a:ext cx="9144000" cy="528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адача имеет одно и только одно реш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усть x – координата искомой точки D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огда уравн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меет ровно одно решение. Обозначи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огда решение будет иметь вид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2906640" y="1386000"/>
          <a:ext cx="373212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06640" y="1386000"/>
                    <a:ext cx="373212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6" name=""/>
          <p:cNvGraphicFramePr/>
          <p:nvPr/>
        </p:nvGraphicFramePr>
        <p:xfrm>
          <a:off x="3171960" y="3092400"/>
          <a:ext cx="2361960" cy="1295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1960" y="3092400"/>
                    <a:ext cx="236196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8" name=""/>
          <p:cNvGraphicFramePr/>
          <p:nvPr/>
        </p:nvGraphicFramePr>
        <p:xfrm>
          <a:off x="3024360" y="4976640"/>
          <a:ext cx="2895480" cy="1181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24360" y="4976640"/>
                    <a:ext cx="2895480" cy="118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67F98-0E92-40D4-818F-6CC24A5C376A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0" y="0"/>
            <a:ext cx="9144000" cy="445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пример, если точки A, B, C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ходятся на равных расстояниях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руг от друга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 имеют координаты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0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2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о тог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2705040" y="2590920"/>
          <a:ext cx="2971800" cy="1181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05040" y="2590920"/>
                    <a:ext cx="2971800" cy="118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3" name=""/>
          <p:cNvGraphicFramePr/>
          <p:nvPr/>
        </p:nvGraphicFramePr>
        <p:xfrm>
          <a:off x="3079800" y="4491000"/>
          <a:ext cx="2057400" cy="1181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79800" y="4491000"/>
                    <a:ext cx="2057400" cy="118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035A5-B1E3-4FFA-B617-04EEDCA8B1FF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54360" cy="479412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4102200" y="0"/>
            <a:ext cx="50418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проектируем прямую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br>
              <a:rPr sz="3200"/>
            </a:b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из двух разных центров 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'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 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''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 две различные прямые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'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''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3714B-F352-4D9B-B476-9A90069E4BE1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54360" cy="47941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4102200" y="0"/>
            <a:ext cx="50418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проектируем прямую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br>
              <a:rPr sz="3200"/>
            </a:b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из двух разных центров 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'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 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''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 две различные прямые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'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''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то даст соответствия: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) P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↔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'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между точками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прямых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'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) P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↔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''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между точками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прямых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'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''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68FC0-2730-4033-9F65-B407C68D7F49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54360" cy="479412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4344840" y="0"/>
            <a:ext cx="479916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огда получим соответствие 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'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↔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'‘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м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жду точками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ямых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'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''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такое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то каждые четыре точки 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'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'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'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'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на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'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имеют то же самое двойное отношение, что и соответствующ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очки 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''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''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''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''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на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''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1AC08-BAF8-47F8-8739-F24FB252F8F3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0" y="0"/>
            <a:ext cx="9144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сякое взаимно однозначное соответств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ежду точками двух прямых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бладающее таким свойством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зывается</a:t>
            </a:r>
            <a:br>
              <a:rPr sz="3200"/>
            </a:b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проективным соответствием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независимо от того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аким способом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это соответствие установлен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55986-CD4B-47EA-AEFA-13CC57151656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Теорема о четырёхсторонни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0" y="3078000"/>
            <a:ext cx="6103800" cy="378000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0" y="576360"/>
            <a:ext cx="9144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лный четырехсторонник –  фигура, образованная четырьмя прямыми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з которых никакие три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 являются конкуррентными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 шестью точками их пересеч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EE765-C247-46DC-84CE-B8CD9758DAD1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Теорема о четырёхсторонни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0" y="3078000"/>
            <a:ext cx="6103800" cy="378000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0" y="576360"/>
            <a:ext cx="9144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лный четырехсторонник –  фигура, образованная четырьмя прямыми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з которых никакие три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 являются конкуррентными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 шестью точками их пересеч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154760" y="3263760"/>
            <a:ext cx="498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E, BE, BI, AF – прямы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AE54B-C5DC-4054-93A7-47009CA89675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Теорема о четырёхсторонни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0" y="3078000"/>
            <a:ext cx="6103800" cy="378000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0" y="576360"/>
            <a:ext cx="9144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лный четырехсторонник –  фигура, образованная четырьмя прямыми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з которых никакие три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 являются конкуррентными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 шестью точками их пересеч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154760" y="3263760"/>
            <a:ext cx="498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E, BE, BI, AF – прямы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22720" y="4168800"/>
            <a:ext cx="5021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AB, EG и IF –  диагонали четырехсторонни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92048-F721-4519-A4C1-D6C8FB85500F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620800" y="3282840"/>
            <a:ext cx="6523200" cy="35751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0"/>
            <a:ext cx="9144000" cy="21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оверим эт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Unicode MS"/>
              </a:rPr>
              <a:t>Повернём прямую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'</a:t>
            </a:r>
            <a:r>
              <a:rPr b="0" lang="ru-RU" sz="3200" spc="-1" strike="noStrike">
                <a:solidFill>
                  <a:srgbClr val="000000"/>
                </a:solidFill>
                <a:latin typeface="Arial Unicode MS"/>
              </a:rPr>
              <a:t> около точки C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'</a:t>
            </a:r>
            <a:r>
              <a:rPr b="0" lang="ru-RU" sz="3200" spc="-1" strike="noStrike">
                <a:solidFill>
                  <a:srgbClr val="000000"/>
                </a:solidFill>
                <a:latin typeface="Arial Unicode MS"/>
              </a:rPr>
              <a:t>, до положения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''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|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l.</a:t>
            </a:r>
            <a:r>
              <a:rPr b="0" lang="ru-RU" sz="32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 rot="13171800">
            <a:off x="6006600" y="4459320"/>
            <a:ext cx="723600" cy="519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6298474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6298474"/>
              </a:path>
            </a:pathLst>
          </a:custGeom>
          <a:noFill/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4FB7D-6036-47DB-A6A7-2BE279DD8FF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3078000"/>
            <a:ext cx="6103800" cy="378000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0" y="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ссмотрим диагональ AB (например)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2FD28-F7AF-4E8C-A127-1CBF824F933A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0" y="3078000"/>
            <a:ext cx="6103800" cy="378000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0"/>
            <a:ext cx="9144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ссмотрим диагональ AB (например)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тметим на ней точки пересечения с двум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ругими диагоналями – C и 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84E0C-DDD2-4085-A91F-110CB6C9AB4C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0" y="3078000"/>
            <a:ext cx="6103800" cy="378000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/>
          <p:nvPr/>
        </p:nvSpPr>
        <p:spPr>
          <a:xfrm>
            <a:off x="0" y="0"/>
            <a:ext cx="9144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ссмотрим диагональ AB (например)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тметим на ней точки пересечения с двум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ругими диагоналями – C и 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меем теорему, которая утверждает существование равенства (ABCD) = −1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43350-F0FF-49BD-9F7B-AD79D04CEB9E}" type="slidenum">
              <a:t>8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0" y="3078000"/>
            <a:ext cx="6103800" cy="378000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0" y="0"/>
            <a:ext cx="9144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ссмотрим диагональ AB (например)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тметим на ней точки пересечения с двум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ругими диагоналями – C и 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меем теорему, которая утверждает существование равенства (ABCD) = −1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221440" y="2614680"/>
            <a:ext cx="3922560" cy="350604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очки пересечения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дной диагонали с двумя другими делят отрезок между вершинами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етырехсторонника гармоничес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D7D33-4F61-483D-8ADC-C95FE06FB178}" type="slidenum">
              <a:t>8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3078000"/>
            <a:ext cx="6103800" cy="378000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Доказательств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0" y="6904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) x = (ABCD) = (IFHD) (проектируем из E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7DBEA-3BD0-4E6D-A51B-90D7B8C555C4}" type="slidenum">
              <a:t>8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0" y="3078000"/>
            <a:ext cx="6103800" cy="378000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Доказательств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0" y="69048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) x = (ABCD) = (IFHD) (проектируем из E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) (IFHD) = (BACD) (проектируем из G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1AF89-14D0-44F8-B15C-15C3C00CD67F}" type="slidenum">
              <a:t>8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0" y="3078000"/>
            <a:ext cx="6103800" cy="378000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Доказательств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0" y="69048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) x = (ABCD) = (IFHD) (проектируем из E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) (IFHD) = (BACD) (проектируем из G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0" y="193680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звестно, чт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3" name=""/>
          <p:cNvGraphicFramePr/>
          <p:nvPr/>
        </p:nvGraphicFramePr>
        <p:xfrm>
          <a:off x="2852640" y="1758960"/>
          <a:ext cx="3562560" cy="1144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852640" y="1758960"/>
                    <a:ext cx="3562560" cy="114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C9446-FB88-45B5-B677-2CA3463860FA}" type="slidenum">
              <a:t>8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0" y="3078000"/>
            <a:ext cx="6103800" cy="378000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Доказательств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0" y="69048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) x = (ABCD) = (IFHD) (проектируем из E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) (IFHD) = (BACD) (проектируем из G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0" y="193680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звестно, чт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9" name=""/>
          <p:cNvGraphicFramePr/>
          <p:nvPr/>
        </p:nvGraphicFramePr>
        <p:xfrm>
          <a:off x="2852640" y="1758960"/>
          <a:ext cx="3562560" cy="1144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6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852640" y="1758960"/>
                    <a:ext cx="3562560" cy="114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1" name=""/>
          <p:cNvSpPr/>
          <p:nvPr/>
        </p:nvSpPr>
        <p:spPr>
          <a:xfrm>
            <a:off x="3689280" y="3075120"/>
            <a:ext cx="139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ог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2" name=""/>
          <p:cNvGraphicFramePr/>
          <p:nvPr/>
        </p:nvGraphicFramePr>
        <p:xfrm>
          <a:off x="5025960" y="2860560"/>
          <a:ext cx="4118040" cy="10130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6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025960" y="2860560"/>
                    <a:ext cx="4118040" cy="101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28AB0-4A61-4EFD-A22A-B08C3A795012}" type="slidenum">
              <a:t>8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0" y="3078000"/>
            <a:ext cx="6103800" cy="37800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Доказательств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0" y="69048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) x = (ABCD) = (IFHD) (проектируем из E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) (IFHD) = (BACD) (проектируем из G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0" y="193680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звестно, чт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8" name=""/>
          <p:cNvGraphicFramePr/>
          <p:nvPr/>
        </p:nvGraphicFramePr>
        <p:xfrm>
          <a:off x="2852640" y="1758960"/>
          <a:ext cx="3562560" cy="1144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6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852640" y="1758960"/>
                    <a:ext cx="3562560" cy="114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0" name=""/>
          <p:cNvSpPr/>
          <p:nvPr/>
        </p:nvSpPr>
        <p:spPr>
          <a:xfrm>
            <a:off x="3689280" y="3075120"/>
            <a:ext cx="139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ог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1" name=""/>
          <p:cNvGraphicFramePr/>
          <p:nvPr/>
        </p:nvGraphicFramePr>
        <p:xfrm>
          <a:off x="5025960" y="2860560"/>
          <a:ext cx="4118040" cy="10130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7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025960" y="2860560"/>
                    <a:ext cx="4118040" cy="101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3" name=""/>
          <p:cNvSpPr/>
          <p:nvPr/>
        </p:nvSpPr>
        <p:spPr>
          <a:xfrm>
            <a:off x="3511440" y="3841920"/>
            <a:ext cx="56325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ак как C разделяет A, B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о двойное отношение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отрицательно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5A160-1CC8-4F46-80C1-B97B483C314E}" type="slidenum">
              <a:t>8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0" y="3078000"/>
            <a:ext cx="6103800" cy="378000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Доказательств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0" y="69048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) x = (ABCD) = (IFHD) (проектируем из E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) (IFHD) = (BACD) (проектируем из G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0" y="193680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звестно, чт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8" name=""/>
          <p:cNvGraphicFramePr/>
          <p:nvPr/>
        </p:nvGraphicFramePr>
        <p:xfrm>
          <a:off x="2852640" y="1758960"/>
          <a:ext cx="3562560" cy="1144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7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852640" y="1758960"/>
                    <a:ext cx="3562560" cy="114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0" name=""/>
          <p:cNvSpPr/>
          <p:nvPr/>
        </p:nvSpPr>
        <p:spPr>
          <a:xfrm>
            <a:off x="3689280" y="3075120"/>
            <a:ext cx="139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ог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1" name=""/>
          <p:cNvGraphicFramePr/>
          <p:nvPr/>
        </p:nvGraphicFramePr>
        <p:xfrm>
          <a:off x="5025960" y="2860560"/>
          <a:ext cx="4118040" cy="10130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8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025960" y="2860560"/>
                    <a:ext cx="4118040" cy="101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3" name=""/>
          <p:cNvSpPr/>
          <p:nvPr/>
        </p:nvSpPr>
        <p:spPr>
          <a:xfrm>
            <a:off x="3511440" y="3841920"/>
            <a:ext cx="5632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ак как C разделяет A, B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о двойное отношение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отрицательно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Поэтому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−1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,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что и требовалось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доказ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BF6AD-B23F-452E-A076-1C4958BD0E1E}" type="slidenum">
              <a:t>8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620800" y="3282840"/>
            <a:ext cx="6523200" cy="35751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0" y="0"/>
            <a:ext cx="9144000" cy="31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оверим эт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Unicode MS"/>
              </a:rPr>
              <a:t>Повернём прямую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'</a:t>
            </a:r>
            <a:r>
              <a:rPr b="0" lang="ru-RU" sz="3200" spc="-1" strike="noStrike">
                <a:solidFill>
                  <a:srgbClr val="000000"/>
                </a:solidFill>
                <a:latin typeface="Arial Unicode MS"/>
              </a:rPr>
              <a:t> около точки C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'</a:t>
            </a:r>
            <a:r>
              <a:rPr b="0" lang="ru-RU" sz="3200" spc="-1" strike="noStrike">
                <a:solidFill>
                  <a:srgbClr val="000000"/>
                </a:solidFill>
                <a:latin typeface="Arial Unicode MS"/>
              </a:rPr>
              <a:t>, до положения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''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|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l.</a:t>
            </a:r>
            <a:r>
              <a:rPr b="0" lang="ru-RU" sz="32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Unicode MS"/>
              </a:rPr>
              <a:t>Затем, проектируя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ru-RU" sz="3200" spc="-1" strike="noStrike">
                <a:solidFill>
                  <a:srgbClr val="000000"/>
                </a:solidFill>
                <a:latin typeface="Arial Unicode MS"/>
              </a:rPr>
              <a:t> на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''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 Unicode MS"/>
              </a:rPr>
              <a:t>параллельно CC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'</a:t>
            </a:r>
            <a:r>
              <a:rPr b="0" lang="ru-RU" sz="3200" spc="-1" strike="noStrike">
                <a:solidFill>
                  <a:srgbClr val="000000"/>
                </a:solidFill>
                <a:latin typeface="Arial Unicode MS"/>
              </a:rPr>
              <a:t>, получим три точки A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''</a:t>
            </a:r>
            <a:r>
              <a:rPr b="0" lang="ru-RU" sz="3200" spc="-1" strike="noStrike">
                <a:solidFill>
                  <a:srgbClr val="000000"/>
                </a:solidFill>
                <a:latin typeface="Arial Unicode MS"/>
              </a:rPr>
              <a:t>, B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''</a:t>
            </a:r>
            <a:r>
              <a:rPr b="0" lang="ru-RU" sz="3200" spc="-1" strike="noStrike">
                <a:solidFill>
                  <a:srgbClr val="000000"/>
                </a:solidFill>
                <a:latin typeface="Arial Unicode MS"/>
              </a:rPr>
              <a:t> и C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''</a:t>
            </a:r>
            <a:r>
              <a:rPr b="0" lang="ru-RU" sz="3200" spc="-1" strike="noStrike">
                <a:solidFill>
                  <a:srgbClr val="000000"/>
                </a:solidFill>
                <a:latin typeface="Arial Unicode MS"/>
              </a:rPr>
              <a:t> (≡C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'</a:t>
            </a:r>
            <a:r>
              <a:rPr b="0" lang="ru-RU" sz="3200" spc="-1" strike="noStrike">
                <a:solidFill>
                  <a:srgbClr val="000000"/>
                </a:solidFill>
                <a:latin typeface="Arial Unicode MS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 rot="13171800">
            <a:off x="6006600" y="4459320"/>
            <a:ext cx="723600" cy="519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6298474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6298474"/>
              </a:path>
            </a:pathLst>
          </a:custGeom>
          <a:noFill/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31804-1E18-448D-B5CB-8313C9BAE34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Теорема Паскал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0" y="690480"/>
            <a:ext cx="9144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отивоположные стороны шестиугольник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писанного в коническое сечение, пересекаются в трех коллинеар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очк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2130480" y="2232000"/>
            <a:ext cx="6256440" cy="4626000"/>
          </a:xfrm>
          <a:prstGeom prst="rect">
            <a:avLst/>
          </a:prstGeom>
          <a:ln w="0">
            <a:noFill/>
          </a:ln>
        </p:spPr>
      </p:pic>
      <p:sp>
        <p:nvSpPr>
          <p:cNvPr id="287" name=""/>
          <p:cNvSpPr/>
          <p:nvPr/>
        </p:nvSpPr>
        <p:spPr>
          <a:xfrm>
            <a:off x="0" y="4338720"/>
            <a:ext cx="2581200" cy="938160"/>
          </a:xfrm>
          <a:prstGeom prst="wedgeRoundRectCallout">
            <a:avLst>
              <a:gd name="adj1" fmla="val 62976"/>
              <a:gd name="adj2" fmla="val 71490"/>
              <a:gd name="adj3" fmla="val 16667"/>
            </a:avLst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Unicode MS"/>
              </a:rPr>
              <a:t>Шестиугольн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Unicode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Arial Unicode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Arial Unicode MS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Arial Unicode MS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Arial Unicode MS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Arial Unicode MS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5899320" y="5592600"/>
            <a:ext cx="2581200" cy="938520"/>
          </a:xfrm>
          <a:prstGeom prst="wedgeRoundRectCallout">
            <a:avLst>
              <a:gd name="adj1" fmla="val -105967"/>
              <a:gd name="adj2" fmla="val -145939"/>
              <a:gd name="adj3" fmla="val 16667"/>
            </a:avLst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Unicode MS"/>
              </a:rPr>
              <a:t>Шестиугольн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Unicode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Arial Unicode MS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Arial Unicode MS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Arial Unicode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Arial Unicode MS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Arial Unicode M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BEE65-FBBE-4BCF-8142-C809141976A4}" type="slidenum">
              <a:t>9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Теорема Брианшо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0" y="690480"/>
            <a:ext cx="9144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ри диагонали, соединяющее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тивоположные вершины шестиугольника, описанного около конического сечения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нкуррент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1990800" y="3067200"/>
            <a:ext cx="5877000" cy="3430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05F31-D64B-4A17-B233-3F63EFAD3C1A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5T14:21:42Z</dcterms:created>
  <dc:creator>А.В.</dc:creator>
  <dc:description/>
  <dc:language>en-US</dc:language>
  <cp:lastModifiedBy>Admin</cp:lastModifiedBy>
  <dcterms:modified xsi:type="dcterms:W3CDTF">2019-09-30T19:42:24Z</dcterms:modified>
  <cp:revision>1587</cp:revision>
  <dc:subject/>
  <dc:title>Основы математического моделирования в педагогических измерениях</dc:title>
</cp:coreProperties>
</file>