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4979-C2D1-436F-A31B-B1535138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6411-E955-4BC3-9097-EC5384E5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4516-2C99-4EC5-94B8-355735E2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7BC5-FFCF-42BB-8A88-7EC62D35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97AD-24EA-48D2-A814-D2FEFAEB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CC29-A91B-4369-962C-2B447E39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ED6C-5B4F-47AA-8768-7FBC9097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D521-DC22-4492-8504-57F52FA4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ED57-BBA8-4A79-99A2-F2B24FB1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AF68-603C-45CA-963C-F0D5488B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BA50-5145-47CA-A599-23915E92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935F-9194-4E80-87C5-EADBC004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02B6-6FF7-4041-B86E-125126D0C2C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09AF-59E1-4632-BBCC-27B12C30DF4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13960" y="1141200"/>
            <a:ext cx="797076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ектив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екция №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ективной геометри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должение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DA20-B1DF-4EEF-9E6E-022D29746D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мер замены «точк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↔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яма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806400"/>
          <a:ext cx="9144000" cy="6051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7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две различные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и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ожно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сти единственную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яму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ff"/>
                      </a:solidFill>
                    </a:lnR>
                    <a:lnT>
                      <a:noFill/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25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ff"/>
                      </a:solidFill>
                    </a:lnL>
                    <a:lnR>
                      <a:noFill/>
                    </a:lnR>
                    <a:lnT w="93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4349-4428-4EF7-A0DD-7142E4868C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мер замены «точк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↔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яма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806400"/>
          <a:ext cx="9144000" cy="6051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7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две различные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и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ожно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сти единственную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яму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ff"/>
                      </a:solidFill>
                    </a:lnR>
                    <a:lnT>
                      <a:noFill/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две различные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ямые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ожно провести единственную</a:t>
                      </a:r>
                      <a:br>
                        <a:rPr sz="3200"/>
                      </a:b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25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ff"/>
                      </a:solidFill>
                    </a:lnL>
                    <a:lnR>
                      <a:noFill/>
                    </a:lnR>
                    <a:lnT w="93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B074-CFAD-4C73-B4AB-41DD446707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мер замены «точк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↔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яма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806400"/>
          <a:ext cx="9144000" cy="6051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7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две различные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и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ожно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сти единственную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яму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ff"/>
                      </a:solidFill>
                    </a:lnR>
                    <a:lnT>
                      <a:noFill/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две различные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ямые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ожно провести единственную</a:t>
                      </a:r>
                      <a:br>
                        <a:rPr sz="3200"/>
                      </a:b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25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е различные</a:t>
                      </a:r>
                      <a:br>
                        <a:rPr sz="3200"/>
                      </a:b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и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цидентны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единственной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ямо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ff"/>
                      </a:solidFill>
                    </a:lnL>
                    <a:lnR>
                      <a:noFill/>
                    </a:lnR>
                    <a:lnT w="93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A163-B7D6-412C-93FF-3B309977B1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мер замены «точк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↔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яма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0" y="806400"/>
          <a:ext cx="9144000" cy="6051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7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две различные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и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ожно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сти единственную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яму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ff"/>
                      </a:solidFill>
                    </a:lnR>
                    <a:lnT>
                      <a:noFill/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две различные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ямые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ожно провести единственную</a:t>
                      </a:r>
                      <a:br>
                        <a:rPr sz="3200"/>
                      </a:b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25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е различные</a:t>
                      </a:r>
                      <a:br>
                        <a:rPr sz="3200"/>
                      </a:b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и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цидентны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единственной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ямо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е различные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ямые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цидентны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единственной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ff"/>
                      </a:solidFill>
                    </a:lnL>
                    <a:lnR>
                      <a:noFill/>
                    </a:lnR>
                    <a:lnT w="93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5D16-2BE5-45A4-9CE3-913AA43D3B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мер замены «точк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↔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яма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806400"/>
          <a:ext cx="9144000" cy="6051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7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две различные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и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ожно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сти единственную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яму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ff"/>
                      </a:solidFill>
                    </a:lnR>
                    <a:lnT>
                      <a:noFill/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две различные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ямые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ожно провести единственную</a:t>
                      </a:r>
                      <a:br>
                        <a:rPr sz="3200"/>
                      </a:b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25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е различные</a:t>
                      </a:r>
                      <a:br>
                        <a:rPr sz="3200"/>
                      </a:b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и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цидентны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единственной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ямо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е различные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ямые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цидентны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единственной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ff"/>
                      </a:solidFill>
                    </a:lnL>
                    <a:lnR>
                      <a:noFill/>
                    </a:lnR>
                    <a:lnT w="93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3859200" y="2087640"/>
            <a:ext cx="7365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59200" y="4425840"/>
            <a:ext cx="7365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8595-98CD-4205-8022-6205F9ECFA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нцип двойствен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каждого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ективного предлож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носительн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оче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ям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плоскости может быть получено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торое предлож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утём замен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а 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ч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словом 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ям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наобо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Жан Виктор Понсе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фицер инженерного корп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писано в г.Саратове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1812-1815 г.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1DA7-FA79-422F-BB43-45C7B31A70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заимно-двойственные элементы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пространств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очка </a:t>
            </a:r>
            <a:br>
              <a:rPr sz="3200"/>
            </a:br>
            <a:br>
              <a:rPr sz="20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лос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6FC2-CA94-4133-8066-BD32ACF1CB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заимно-двойственные элементы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пространств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очка </a:t>
            </a:r>
            <a:br>
              <a:rPr sz="3200"/>
            </a:br>
            <a:br>
              <a:rPr sz="20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лос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843360"/>
            <a:ext cx="91440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заимно-двойственные опер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овести плоскость через точку </a:t>
            </a:r>
            <a:br>
              <a:rPr sz="3200"/>
            </a:br>
            <a:br>
              <a:rPr sz="20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тметить точку на плос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37356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B244-1EF9-4F38-8E62-1703DC19CA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мер замены «точк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↔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оско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806400"/>
          <a:ext cx="9144000" cy="62690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01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и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лежащие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одной прямой,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яют  единственную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лоск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ff"/>
                      </a:solidFill>
                    </a:lnR>
                    <a:lnT>
                      <a:noFill/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2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ff"/>
                      </a:solidFill>
                    </a:lnL>
                    <a:lnR>
                      <a:noFill/>
                    </a:lnR>
                    <a:lnT w="93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604-F73F-4946-85ED-6AC5C0301D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мер замены «точк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↔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оско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806400"/>
          <a:ext cx="9144000" cy="62690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01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и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лежащие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одной прямой,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яют  единственную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лоск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ff"/>
                      </a:solidFill>
                    </a:lnR>
                    <a:lnT>
                      <a:noFill/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лоскости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роходящие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одну прямую, определяют единственную</a:t>
                      </a:r>
                      <a:br>
                        <a:rPr sz="3200"/>
                      </a:b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2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ff"/>
                      </a:solidFill>
                    </a:lnL>
                    <a:lnR>
                      <a:noFill/>
                    </a:lnR>
                    <a:lnT w="93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4A7C-86D7-46D1-84CB-BDC7D7894F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41080" y="1887480"/>
            <a:ext cx="7970760" cy="24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 Некоторые воспоми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B598-CA11-4407-9DDB-4FB39E54A4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мер замены «точк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↔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оско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806400"/>
          <a:ext cx="9144000" cy="62690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01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и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лежащие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одной прямой,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яют  единственную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лоск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ff"/>
                      </a:solidFill>
                    </a:lnR>
                    <a:lnT>
                      <a:noFill/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лоскости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роходящие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одну прямую, определяют единственную</a:t>
                      </a:r>
                      <a:br>
                        <a:rPr sz="3200"/>
                      </a:b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2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и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цидентные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дной прямой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цидентны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единственной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лоскос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ff"/>
                      </a:solidFill>
                    </a:lnL>
                    <a:lnR>
                      <a:noFill/>
                    </a:lnR>
                    <a:lnT w="93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B037-71C8-4763-9473-7190D9C36B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мер замены «точк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↔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оско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806400"/>
          <a:ext cx="9144000" cy="62690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01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и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лежащие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одной прямой,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яют  единственную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лоск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ff"/>
                      </a:solidFill>
                    </a:lnR>
                    <a:lnT>
                      <a:noFill/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лоскости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роходящие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одну прямую, определяют единственную</a:t>
                      </a:r>
                      <a:br>
                        <a:rPr sz="3200"/>
                      </a:b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2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и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цидентные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дной прямой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цидентны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единственной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лоскос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лоскости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цидентные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дной прямой,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цидентны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единственной </a:t>
                      </a:r>
                      <a:br>
                        <a:rPr sz="3200"/>
                      </a:b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ff"/>
                      </a:solidFill>
                    </a:lnL>
                    <a:lnR>
                      <a:noFill/>
                    </a:lnR>
                    <a:lnT w="93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71CD-942D-469A-A1A6-F42CCA2D44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мер замены «точк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↔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оско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806400"/>
          <a:ext cx="9144000" cy="62690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01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и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лежащие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одной прямой,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яют  единственную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лоск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ff"/>
                      </a:solidFill>
                    </a:lnR>
                    <a:lnT>
                      <a:noFill/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лоскости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роходящие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одну прямую, определяют единственную</a:t>
                      </a:r>
                      <a:br>
                        <a:rPr sz="3200"/>
                      </a:b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2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и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цидентные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дной прямой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цидентны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единственной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лоскос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лоскости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цидентные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дной прямой,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цидентны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единственной </a:t>
                      </a:r>
                      <a:br>
                        <a:rPr sz="3200"/>
                      </a:b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ff"/>
                      </a:solidFill>
                    </a:lnL>
                    <a:lnR>
                      <a:noFill/>
                    </a:lnR>
                    <a:lnT w="93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859200" y="2314440"/>
            <a:ext cx="7365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59200" y="5178600"/>
            <a:ext cx="7365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BD51-F770-4586-A0A3-E4F1BEA673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нцип двойствен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Две фигуры взаимно двойственны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если одна может быть получена из другой посредством замен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каждого элемента и каждой операции двойственным элементом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и двойственной операц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4445-9DF4-4487-ABA7-AE879D4F7E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нцип двойствен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Две теоремы взаимно двойственны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если одна превращается в другую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при замене каждого элемент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и каждой операц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двойственным элементом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и двойств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операц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381F-92C8-4ED9-AACB-4542D56836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нцип двойствен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Явление двойственности резко отличает проективную геометрию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от элементарной (метрической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в которой никакой двойственности не наблюд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5AB5-3BDF-4150-AF5D-A78F73DF7B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нцип двойствен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Каждой верной теорем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проективной геометр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сопоставляется двойственная ей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также верная теор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743E-B3D3-4B01-ADBA-EEDA081F7AA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нцип двойствен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Каждой верной теорем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проективной геометр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сопоставляется двойственная ей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также верная теор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Следствие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. Двойственную теорему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                   можно не доказ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5D40-6EB5-4C6E-A209-D3B67A3112F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спективность относительно точ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Есть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две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конфигурации из точек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(могут быть и проходящие через них прямы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EC1F-71DA-4515-863D-8CA019165F2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спективность относительно точ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Есть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две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конфигурации из точек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(могут быть и проходящие через них прямы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Соединим соответствующие точки прямыми попар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54320" y="2517840"/>
            <a:ext cx="4794120" cy="226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8C4E-ECDF-437F-A7C0-FD485A25292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492120" y="109440"/>
            <a:ext cx="3382200" cy="6553800"/>
            <a:chOff x="492120" y="109440"/>
            <a:chExt cx="3382200" cy="6553800"/>
          </a:xfrm>
        </p:grpSpPr>
        <p:cxnSp>
          <p:nvCxnSpPr>
            <p:cNvPr id="44" name="_s961550"/>
            <p:cNvCxnSpPr>
              <a:stCxn id="45" idx="0"/>
              <a:endCxn id="46" idx="2"/>
            </p:cNvCxnSpPr>
            <p:nvPr/>
          </p:nvCxnSpPr>
          <p:spPr>
            <a:xfrm flipV="1">
              <a:off x="2182680" y="4204800"/>
              <a:ext cx="3960" cy="81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stealth" w="med"/>
            </a:ln>
          </p:spPr>
        </p:cxnSp>
        <p:cxnSp>
          <p:nvCxnSpPr>
            <p:cNvPr id="47" name="_s961546"/>
            <p:cNvCxnSpPr>
              <a:stCxn id="46" idx="0"/>
              <a:endCxn id="48" idx="2"/>
            </p:cNvCxnSpPr>
            <p:nvPr/>
          </p:nvCxnSpPr>
          <p:spPr>
            <a:xfrm flipV="1">
              <a:off x="2182680" y="1747080"/>
              <a:ext cx="3960" cy="81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stealth" w="med"/>
            </a:ln>
          </p:spPr>
        </p:cxnSp>
        <p:sp>
          <p:nvSpPr>
            <p:cNvPr id="48" name="_s961542"/>
            <p:cNvSpPr/>
            <p:nvPr/>
          </p:nvSpPr>
          <p:spPr>
            <a:xfrm>
              <a:off x="492120" y="109440"/>
              <a:ext cx="3382200" cy="1638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 Unicode MS"/>
                </a:rPr>
                <a:t>Евклидова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 Unicode MS"/>
                </a:rPr>
                <a:t>плоскост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961543"/>
            <p:cNvSpPr/>
            <p:nvPr/>
          </p:nvSpPr>
          <p:spPr>
            <a:xfrm>
              <a:off x="492120" y="2567160"/>
              <a:ext cx="3382200" cy="1638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 Unicode MS"/>
                </a:rPr>
                <a:t>Аффинная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 Unicode MS"/>
                </a:rPr>
                <a:t>плоскост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961549"/>
            <p:cNvSpPr/>
            <p:nvPr/>
          </p:nvSpPr>
          <p:spPr>
            <a:xfrm>
              <a:off x="492120" y="5024880"/>
              <a:ext cx="3382200" cy="1638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 Unicode MS"/>
                </a:rPr>
                <a:t>Проективная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 Unicode MS"/>
                </a:rPr>
                <a:t>плоскост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12EF-3463-4594-B876-0F7AF657A4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86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спективность относительно точ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Есть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две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конфигурации из точек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(могут быть и проходящие через них прямы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Соединим соответствующие точки прямыми попар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Если эти прямые пересекаются в одной то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то такие две конфигураци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 Unicode MS"/>
              </a:rPr>
              <a:t>перспективны относительно этой точки – </a:t>
            </a:r>
            <a:br>
              <a:rPr sz="3200"/>
            </a:b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центра перспективы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54320" y="2517840"/>
            <a:ext cx="4794120" cy="226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44C2-35AE-423B-A626-5F64CA1A225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спективность относительно точ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17760" y="806400"/>
            <a:ext cx="5997600" cy="55850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A1EF-67E4-4FC5-B2AE-C5E77CF38F4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33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Перспективность относительно прямо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Есть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две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конфигурации из прямых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(могут быть выделены точки их пересеч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ACDD-3B45-4DB7-A069-C802F0939E9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61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Перспективность относительно прямо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Есть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две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конфигурации из прямых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(могут быть выделены точки их пересеч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Выделим точки пересечения соответствующих прям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27280" y="2508120"/>
            <a:ext cx="6240240" cy="226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32A1-7ABA-48CA-B88D-02881E88609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86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Перспективность относительно прямо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Есть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две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конфигурации из прямых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(могут быть выделены точки их пересеч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Выделим точки пересечения соответствующих прям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Если эти точки лежат на одной пря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то такие две конфигураци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 Unicode MS"/>
              </a:rPr>
              <a:t>перспективны относительно этой прямой – </a:t>
            </a:r>
            <a:br>
              <a:rPr sz="3200"/>
            </a:b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оси перспективы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27280" y="2508120"/>
            <a:ext cx="6240240" cy="226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AF36-1DBA-4ED4-95C9-5BCCF07FC99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Перспективность относительно прямо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07920" y="870120"/>
            <a:ext cx="7481880" cy="55720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2AE0-EC21-49C2-AE4D-76F337DA8E2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кзотические случа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–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64120" y="1158840"/>
            <a:ext cx="3247920" cy="3462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0680" y="4583160"/>
            <a:ext cx="3254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Ось перспективы – несобственная прям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65760" y="4695840"/>
            <a:ext cx="3771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Ось перспективы – светлая прямая (третья точка – несобственн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06440" y="1434960"/>
            <a:ext cx="3701880" cy="292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23B7-70ED-4800-83AA-DEC3EB52C32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кзотические случа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–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2280" y="4683240"/>
            <a:ext cx="3254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Определить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ось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перспект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65760" y="4695840"/>
            <a:ext cx="377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Определить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ось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перспект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4520" y="1177920"/>
            <a:ext cx="3019320" cy="3286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292720" y="1193760"/>
            <a:ext cx="2790720" cy="330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2EE7-5FB2-4EB4-8B2A-D7EA53FFDAA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Теорема Дезарг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644400"/>
          <a:ext cx="9144000" cy="31179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1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два треугольника перспективны относительно </a:t>
                      </a: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то три точки пересечения соответствующих 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х сторон</a:t>
                      </a:r>
                      <a:br>
                        <a:rPr sz="2800"/>
                      </a:b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коллинеарн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26F2-B09F-4011-99A7-A3B7F2E6FA1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Теорема Дезарг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644400"/>
          <a:ext cx="9144000" cy="31179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1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два треугольника перспективны относительно </a:t>
                      </a: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то три точки пересечения соответствующих 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х сторон</a:t>
                      </a:r>
                      <a:br>
                        <a:rPr sz="2800"/>
                      </a:b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коллинеарн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два треугольника перспективны относительно </a:t>
                      </a: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ямой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то три прямые, проходящие через соответствующие их вершины </a:t>
                      </a: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конкуррентн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5A71-DA36-4463-9D0C-B03DC36F5EA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92120" y="109440"/>
            <a:ext cx="3382200" cy="6553800"/>
            <a:chOff x="492120" y="109440"/>
            <a:chExt cx="3382200" cy="6553800"/>
          </a:xfrm>
        </p:grpSpPr>
        <p:cxnSp>
          <p:nvCxnSpPr>
            <p:cNvPr id="50" name="_s986116"/>
            <p:cNvCxnSpPr>
              <a:stCxn id="51" idx="0"/>
              <a:endCxn id="52" idx="2"/>
            </p:cNvCxnSpPr>
            <p:nvPr/>
          </p:nvCxnSpPr>
          <p:spPr>
            <a:xfrm flipV="1">
              <a:off x="2182680" y="4204800"/>
              <a:ext cx="3960" cy="81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stealth" w="med"/>
            </a:ln>
          </p:spPr>
        </p:cxnSp>
        <p:cxnSp>
          <p:nvCxnSpPr>
            <p:cNvPr id="53" name="_s986117"/>
            <p:cNvCxnSpPr>
              <a:stCxn id="52" idx="0"/>
              <a:endCxn id="54" idx="2"/>
            </p:cNvCxnSpPr>
            <p:nvPr/>
          </p:nvCxnSpPr>
          <p:spPr>
            <a:xfrm flipV="1">
              <a:off x="2182680" y="1747080"/>
              <a:ext cx="3960" cy="81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stealth" w="med"/>
            </a:ln>
          </p:spPr>
        </p:cxnSp>
        <p:sp>
          <p:nvSpPr>
            <p:cNvPr id="54" name="_s986118"/>
            <p:cNvSpPr/>
            <p:nvPr/>
          </p:nvSpPr>
          <p:spPr>
            <a:xfrm>
              <a:off x="492120" y="109440"/>
              <a:ext cx="3382200" cy="1638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 Unicode MS"/>
                </a:rPr>
                <a:t>Евклидова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 Unicode MS"/>
                </a:rPr>
                <a:t>плоскост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986119"/>
            <p:cNvSpPr/>
            <p:nvPr/>
          </p:nvSpPr>
          <p:spPr>
            <a:xfrm>
              <a:off x="492120" y="2567160"/>
              <a:ext cx="3382200" cy="1638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 Unicode MS"/>
                </a:rPr>
                <a:t>Аффинная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 Unicode MS"/>
                </a:rPr>
                <a:t>плоскост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986120"/>
            <p:cNvSpPr/>
            <p:nvPr/>
          </p:nvSpPr>
          <p:spPr>
            <a:xfrm>
              <a:off x="492120" y="5024880"/>
              <a:ext cx="3382200" cy="1638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 Unicode MS"/>
                </a:rPr>
                <a:t>Проективная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 Unicode MS"/>
                </a:rPr>
                <a:t>плоскост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4975200" y="109440"/>
            <a:ext cx="3382200" cy="6553800"/>
            <a:chOff x="4975200" y="109440"/>
            <a:chExt cx="3382200" cy="6553800"/>
          </a:xfrm>
        </p:grpSpPr>
        <p:cxnSp>
          <p:nvCxnSpPr>
            <p:cNvPr id="56" name="_s986123"/>
            <p:cNvCxnSpPr>
              <a:stCxn id="57" idx="0"/>
              <a:endCxn id="58" idx="2"/>
            </p:cNvCxnSpPr>
            <p:nvPr/>
          </p:nvCxnSpPr>
          <p:spPr>
            <a:xfrm flipV="1">
              <a:off x="6665760" y="4204800"/>
              <a:ext cx="3960" cy="81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stealth" w="med"/>
            </a:ln>
          </p:spPr>
        </p:cxnSp>
        <p:cxnSp>
          <p:nvCxnSpPr>
            <p:cNvPr id="59" name="_s986124"/>
            <p:cNvCxnSpPr>
              <a:stCxn id="58" idx="0"/>
              <a:endCxn id="60" idx="2"/>
            </p:cNvCxnSpPr>
            <p:nvPr/>
          </p:nvCxnSpPr>
          <p:spPr>
            <a:xfrm flipV="1">
              <a:off x="6665760" y="1747080"/>
              <a:ext cx="3960" cy="81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stealth" w="med"/>
            </a:ln>
          </p:spPr>
        </p:cxnSp>
        <p:sp>
          <p:nvSpPr>
            <p:cNvPr id="60" name="_s986125"/>
            <p:cNvSpPr/>
            <p:nvPr/>
          </p:nvSpPr>
          <p:spPr>
            <a:xfrm>
              <a:off x="4975200" y="109440"/>
              <a:ext cx="3382200" cy="1638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 Unicode MS"/>
                </a:rPr>
                <a:t>Евклидова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 Unicode MS"/>
                </a:rPr>
                <a:t>геометрия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986126"/>
            <p:cNvSpPr/>
            <p:nvPr/>
          </p:nvSpPr>
          <p:spPr>
            <a:xfrm>
              <a:off x="4975200" y="2567160"/>
              <a:ext cx="3382200" cy="1638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 Unicode MS"/>
                </a:rPr>
                <a:t>Аффинная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 Unicode MS"/>
                </a:rPr>
                <a:t>геометрия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986127"/>
            <p:cNvSpPr/>
            <p:nvPr/>
          </p:nvSpPr>
          <p:spPr>
            <a:xfrm>
              <a:off x="4975200" y="5024880"/>
              <a:ext cx="3382200" cy="1638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 Unicode MS"/>
                </a:rPr>
                <a:t>Проективная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 Unicode MS"/>
                </a:rPr>
                <a:t>геометрия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CE90-9091-4F43-A3E4-FE6E08B2EB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Теорема Дезарг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93800" y="2832120"/>
            <a:ext cx="4605480" cy="402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0" y="644400"/>
          <a:ext cx="9144000" cy="31179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1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два треугольника перспективны относительно </a:t>
                      </a: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то три точки пересечения соответствующих 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х сторон</a:t>
                      </a:r>
                      <a:br>
                        <a:rPr sz="2800"/>
                      </a:b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коллинеарн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два треугольника перспективны относительно </a:t>
                      </a: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ямой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то три прямые, проходящие через соответствующие их вершины </a:t>
                      </a: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конкуррентн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FBD9-0EF5-4A93-9762-58689488E25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Теорема Дезарг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остью проективная формулиров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400040"/>
          <a:ext cx="9144000" cy="33991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3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два треугольника перспективны относительно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и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 они перспективны и относительно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ямой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30C2-ADF1-4319-AD78-DFDFCEA618D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Теорема Дезарг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остью проективная формулиров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1400040"/>
          <a:ext cx="9144000" cy="33991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3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два треугольника перспективны относительно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и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 они перспективны и относительно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ямой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два треугольника перспективны относительно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ямой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то они перспективны и относительно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и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E2FD-A94F-4D62-99B8-FC9D8BD15E9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ективные св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инварианты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FB55-BC5B-4A25-9ECD-B54B13E3D7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ективные св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инварианты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нцидентность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ллинеарность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нкуррент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B6E5-2CA4-44CB-A2FB-5849A732D3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1080" y="1887480"/>
            <a:ext cx="7970760" cy="24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Принци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войств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0F1F-C8A8-4FC2-9957-9311775BBB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заимно-двойственные элементы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плоск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очка </a:t>
            </a:r>
            <a:br>
              <a:rPr sz="3200"/>
            </a:br>
            <a:br>
              <a:rPr sz="20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ям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9C91-AEFD-418D-888B-9034640596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заимно-двойственные элементы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плоск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очка </a:t>
            </a:r>
            <a:br>
              <a:rPr sz="3200"/>
            </a:br>
            <a:br>
              <a:rPr sz="20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ям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43360"/>
            <a:ext cx="91440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заимно-двойственные опер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овести прямую через точку </a:t>
            </a:r>
            <a:br>
              <a:rPr sz="3200"/>
            </a:br>
            <a:br>
              <a:rPr sz="20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тметить точку на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37356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6BCB-5818-434B-95B7-3BA2C66831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4:21:42Z</dcterms:created>
  <dc:creator>А.В.</dc:creator>
  <dc:description/>
  <dc:language>en-US</dc:language>
  <cp:lastModifiedBy>Us</cp:lastModifiedBy>
  <dcterms:modified xsi:type="dcterms:W3CDTF">2016-01-21T08:10:12Z</dcterms:modified>
  <cp:revision>1422</cp:revision>
  <dc:subject/>
  <dc:title>Основы математического моделирования в педагогических измерениях</dc:title>
</cp:coreProperties>
</file>