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249E-C1E3-4094-B768-B659D01D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788-C42B-42B0-8A64-E32904D1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4193-A041-44C4-A36F-3FE03671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F21A-3811-475D-98E4-FA215B5A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4E96-D3A8-45C8-B26A-5AC43832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C48A-CAB9-4534-A124-9210CBED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CE24-8A1F-40C1-AA57-30BA7AE9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7E79-2C1D-49D6-9DCD-879B52CF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CD30-406A-4119-83B9-575F122D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BAE6-E201-49D1-9F6C-91F9A24D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5B50-D17A-4FD2-8E2B-535CBD86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46E8-D71E-41E1-9674-71D5E466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9C3F-6D30-4197-BE52-9848BF67084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0BE7-9E85-4B3F-A1C3-2AE4144C7C6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13960" y="1141200"/>
            <a:ext cx="797076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ект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Лекция №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оективной геометр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9C36-2C8C-440C-934A-5A8CF912C7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нцип двойствен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ве теоремы взаимно двойственн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одна превращается в другую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замене каждого элемент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каждой операц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ойственным элементом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двойств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ерац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C8E1-B4A0-476C-A30A-26334833ED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нцип двойствен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вление двойственности резко отличает проективную геометрию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элементарной (метрической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оторой никакой двойственности не наблюд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4541-623A-4AE0-8709-955719D5AC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нцип двойствен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ждой верной теорем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ективной геометр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поставляется двойственная ей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же верная теор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08A-F870-4773-93C8-EC48464064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нцип двойствен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ждой верной теорем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ективной геометр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поставляется двойственная ей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же верная теор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ледст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Двойственную теорему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можно не доказ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7F0A-90EA-4A5C-999D-153BDE8BA8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71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спективность относительно точ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ть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в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нфигурации из точек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могут быть и проходящие через них прямы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единим соответствующие точки прямыми попар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эти прямые пересекаются в одной то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 такие две конфигураци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ерспективны относительно этой точки –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центра перспектив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54320" y="2517840"/>
            <a:ext cx="4794120" cy="226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4F85-D814-48FF-8BC8-0F82D233F3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спективность относительно точ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17760" y="806400"/>
            <a:ext cx="5997600" cy="55850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4F77-4EBC-4F74-AD15-5E9857A7D3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76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Перспективность относительно прямо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ть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в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нфигурации из прямых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могут быть выделены точки их пересеч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делим точки пересечения соответствующих прям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эти точки лежат на одной пря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 такие две конфигураци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ерспективны относительно этой прямой –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си перспектив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27280" y="2508120"/>
            <a:ext cx="6240240" cy="226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99EA-F4FE-43D7-BC96-FB30B17A15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Перспективность относительно прямо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07920" y="870120"/>
            <a:ext cx="7481880" cy="55720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6387-A030-484B-AAA0-2EEB9B060C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кзотические случа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64120" y="1158840"/>
            <a:ext cx="3247920" cy="3462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0680" y="4583160"/>
            <a:ext cx="3254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ь перспективы – несобственная прям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65760" y="4695840"/>
            <a:ext cx="3771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ь перспективы – светлая прямая (третья точка – несобствен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06440" y="1434960"/>
            <a:ext cx="3701880" cy="292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2A5F-995C-484A-8D8A-C25A59B991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зотические случа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–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2280" y="4683240"/>
            <a:ext cx="3254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ить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ь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65760" y="4695840"/>
            <a:ext cx="377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ить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ь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14520" y="1177920"/>
            <a:ext cx="3019320" cy="3286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292720" y="1193760"/>
            <a:ext cx="2790720" cy="330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CB03-98C1-4286-9C5E-53D1E98B0D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ективные 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инварианты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нцидентность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ллинеарность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нкуррент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6915-769A-4146-B264-EC29512196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Теорема Дезарг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остью проективная формулиров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1400040"/>
          <a:ext cx="9144000" cy="3792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8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два треугольн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рёхсторонника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ёхвершинника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пективны относительно </a:t>
                      </a:r>
                      <a:r>
                        <a:rPr b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br>
                        <a:rPr sz="3200"/>
                      </a:b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 они перспективны и относительно </a:t>
                      </a:r>
                      <a:r>
                        <a:rPr b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ямой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два треугольн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рёхсторонника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ёхвершинника) перспективны относительно </a:t>
                      </a:r>
                      <a:r>
                        <a:rPr b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ямой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то они перспективны и относительно </a:t>
                      </a:r>
                      <a:r>
                        <a:rPr b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68E-CC4A-4972-96B0-C140013EBE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Теорема Дезарг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584280"/>
            <a:ext cx="7176960" cy="627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0F8E-04A0-4AA1-8ECB-0A5D73DFC8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41080" y="1887480"/>
            <a:ext cx="7970760" cy="24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Принци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войств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7C96-763E-4C02-8D15-532F140109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заимно-двойственные элементы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плоск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очка </a:t>
            </a:r>
            <a:br>
              <a:rPr sz="3200"/>
            </a:br>
            <a:br>
              <a:rPr sz="20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ям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843360"/>
            <a:ext cx="91440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заимно-двойственные опер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овести прямую через точку </a:t>
            </a:r>
            <a:br>
              <a:rPr sz="3200"/>
            </a:br>
            <a:br>
              <a:rPr sz="20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тметить точку на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37356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DC2-39CD-4753-B835-E9E5ADBAE0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мер замены «точк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↔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яма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806400"/>
          <a:ext cx="9144000" cy="6051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7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две различные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ожно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сти единственную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яму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>
                      <a:noFill/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две различные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ямы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ожно провести единственную</a:t>
                      </a:r>
                      <a:br>
                        <a:rPr sz="3200"/>
                      </a:b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25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е различные</a:t>
                      </a:r>
                      <a:br>
                        <a:rPr sz="3200"/>
                      </a:b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br>
                        <a:rPr sz="3200"/>
                      </a:b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цидентны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единственной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ямо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е различные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ямы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цидентны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единственной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 w="93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3859200" y="2087640"/>
            <a:ext cx="7365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9200" y="4425840"/>
            <a:ext cx="7365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06A0-A7BE-4FC7-AE6C-45DF2FB4FC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 двойствен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каждого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ективного предлож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носительн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оче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ям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плоскости может быть получено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торое предлож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утём замен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а 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ч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словом 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ям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аобо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Жан Виктор Понсе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фицер инженерного корп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писано в г.Саратове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1812-1815 г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08D4-1F98-4C05-B219-E1C81E21B0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заимно-двойственные элементы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пространств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очка </a:t>
            </a:r>
            <a:br>
              <a:rPr sz="3200"/>
            </a:br>
            <a:br>
              <a:rPr sz="20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лос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843360"/>
            <a:ext cx="91440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заимно-двойственные опер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овести плоскость через точку </a:t>
            </a:r>
            <a:br>
              <a:rPr sz="3200"/>
            </a:br>
            <a:br>
              <a:rPr sz="20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тметить точку на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37356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4CD6-52BE-4274-99C5-4F5057D0AF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мер замены «точк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↔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оск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806400"/>
          <a:ext cx="9144000" cy="62690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0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лежащие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одной прямой,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ют  единственную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лоск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>
                      <a:noFill/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лоскости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оходящие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одну прямую, определяют единственную</a:t>
                      </a:r>
                      <a:br>
                        <a:rPr sz="3200"/>
                      </a:b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2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и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цидентны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дной прямой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цидентны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единственной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лоскос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лоскости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цидентны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дной прямой,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цидентны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единственной </a:t>
                      </a:r>
                      <a:br>
                        <a:rPr sz="3200"/>
                      </a:b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чк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ff"/>
                      </a:solidFill>
                    </a:lnL>
                    <a:lnR>
                      <a:noFill/>
                    </a:lnR>
                    <a:lnT w="93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3859200" y="2314440"/>
            <a:ext cx="7365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59200" y="5178600"/>
            <a:ext cx="7365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EDF-FE2E-4286-9B7C-3096CC97DE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нцип двойствен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ве фигуры взаимно двойственн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одна может быть получена из другой посредством замен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ждого элемента и каждой операции двойственным элементом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двойственной операц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0FF6-B3B1-4C39-B25A-DD8C2C1906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4:21:42Z</dcterms:created>
  <dc:creator>А.В.</dc:creator>
  <dc:description/>
  <dc:language>en-US</dc:language>
  <cp:lastModifiedBy>Татьяна</cp:lastModifiedBy>
  <dcterms:modified xsi:type="dcterms:W3CDTF">2019-09-21T10:20:34Z</dcterms:modified>
  <cp:revision>1424</cp:revision>
  <dc:subject/>
  <dc:title>Основы математического моделирования в педагогических измерениях</dc:title>
</cp:coreProperties>
</file>