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05F-AF17-41CF-BCAE-E6B63312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579-CA2E-40B2-A62F-1B24F2C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6B5-B8ED-4CA9-969E-B25788C1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611-22E8-40BA-8CB2-59D5959B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E88-30F4-4B4D-B1AD-78BC0C26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C33-27F7-4977-A2F6-2F59A76A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155-2FF8-486D-933C-4B7761C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68C-60F2-43B4-A479-A13A718B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E4F-2762-4A81-8EB1-E90F3EC2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88C-C7FD-4534-AD28-F8BA039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3B8-46ED-4873-940F-F4CC9D7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77E-F88C-46F3-9F4B-33C0862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48A-E8FF-45DD-BAA4-14EE05C085F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BAE-059B-47AE-B2BD-91BAC6888D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1600" y="1974600"/>
            <a:ext cx="797076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днор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ордин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D2E-4E5B-4AFB-ADB5-9B55A082CF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отталкиваемся от множества чис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х пар чисел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ек чисел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такой элемент (число, пару, тройку...) называем точкой и може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обходимост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о интерпрети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177-0D0E-482C-95BA-6394FB0944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отталкиваемся от множества чис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х пар чисел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ек чисел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такой элемент (число, пару, тройку...) называем точкой и може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обходимост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о интерпрети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м к том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 физике называют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азовым пространств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99E-75FD-4361-85EF-571A63AA55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4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отталкиваемся от множества чис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х пар чисел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ек чисел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такой элемент (число, пару, тройку...) называем точкой и може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обходимост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о интерпрети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м к том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 физике называют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азовым пространств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мы можем уходить из чисто геометрического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054-B83A-4CE8-938F-26D51E20B8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1600" y="1974600"/>
            <a:ext cx="797076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Однородные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FD5-27E5-49C3-91F1-E21A8B0313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ыкновенная аналитическая геомет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угольные координаты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лоскости – это снабжённые знак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расстояния точки от дву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взаимно перпендикулярных о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5AB-B507-4E95-B823-F989695408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ыкновенная аналитическая геомет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угольные координаты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лоскости – это снабжённые знак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расстояния точки от дву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взаимно перпендикулярных о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акой системе координат нет места для несобственных точек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EB1-2AD1-44E9-AEB3-91D26BB20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ыкновенная аналитическая геомет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угольные координаты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лоскости – это снабжённые знак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расстояния точки от дву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взаимно перпендикулярных о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акой системе координат нет места для несобственных точек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ому для использования аналитических методов в проективной геометрии необходимо найти координатную систему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ая включает несобственные точки наравне с обыкно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795-4955-4C81-9491-B40C3E30D3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плоскость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координатной плоскости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находи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расстоянии 1 от неё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огда трёхмерные координаты точки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будут (X, Y , 1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057-D9B5-4BE9-8537-E0DE83432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плоскость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координатной плоскости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находи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расстоянии 1 от неё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огда трёхмерные координаты точки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будут (X, Y , 1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чало O координатной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истемы есть центр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ектир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8F6-1FCD-41D8-8348-D0B1D1CF72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усть плоскость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координатной плоскости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находи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расстоянии 1 от неё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огда трёхмерные координаты точки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будут (X, Y , 1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чало O координатной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истемы есть центр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ектир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огда всякой точке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заимно однозначно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ответствует прямая OP,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ходящая через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чало координа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232-92DF-4BD5-95BC-23AAFBE33B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31600" y="1974600"/>
            <a:ext cx="797076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Вводные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меч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D79-F45C-42C3-B3E4-37F892559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есобственным точкам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оответствуют прямые, проходящие через O параллельно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FE9-CA8A-4FD7-BE45-970F04B18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прямой OP выберем произвольную точку Q, отличную от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53A-9D68-48D9-A8D4-4CE86D97BD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прямой OP выберем произвольную точку Q, отличную от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ыкновенные трехмерные координаты x, y, z точки Q считаются однородным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оординатами точки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A60-D511-4604-8F92-1A147E48DC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прямой OP выберем произвольную точку Q, отличную от 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ыкновенные трехмерные координаты x, y, z точки Q считаются однородным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оординатами точки P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оординаты (X, Y , 1)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амой точки P также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являются её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днородными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оординат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6C0-6E6D-4373-9ED3-2BABDB591C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так, однородными координатами служат  любые числа (tX, tY , t), где 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0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ак как координаты всех точек прямой OP (кроме O) имеют тако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FC3-C41E-46DC-9F24-E3D9F7BC62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11640" y="2138400"/>
            <a:ext cx="4932360" cy="4719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так, однородными координатами служат  любые числа (tX, tY , t), где 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0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ак как координаты всех точек прямой OP (кроме O) имеют тако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очка (0, 0, 0) исключается,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.к. она лежит на всех прямых,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ходящих через O,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не может служить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их различ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03B-CE1F-4A0A-A68D-C71515D541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стеме однородных координат нужны три числа вместо двух для определения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DE2-09A1-43BC-9553-269FF2368B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стеме однородных координат нужны три числа вместо двух для определения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ординаты точки определяются не однозначно, а с точностью до постоянного множ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E1B-B2CA-4B1F-957F-A99ED2C239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стеме однородных координат нужны три числа вместо двух для определения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ординаты точки определяются не однозначно, а с точностью до постоянного множ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эта система охватывает обыкновенные и несобственные точк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13A-26D2-4627-91F9-C0C8E42E40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собственной точке 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ветствует прям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ходящая через O параллельно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ая точка Q на этой прямо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координаты вида (x, y,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значит, что однородные координаты несобственных точек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ют вид (x, y, 0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FB1-2254-4C97-AFF1-BB13491DA8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налитической геометр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«координатами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ого объект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имае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ая совокупность чисел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воляющ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означно определ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этот объ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B90-D5EA-4BD9-9E21-8B1B0A03B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равнение прямой на плоскости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ыраженное в однородных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3640" y="3932280"/>
            <a:ext cx="294480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13480" y="3398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768640" y="3956040"/>
            <a:ext cx="785880" cy="11174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554880" y="4094280"/>
            <a:ext cx="307800" cy="9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46960" y="4247640"/>
            <a:ext cx="1593720" cy="825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921-DD88-4766-BA6A-F9691AA9B0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авнение прямой на плоскост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ыраженное в однородных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но, что прямые, соединяющие O с точками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т в плоск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ящей через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3640" y="3932280"/>
            <a:ext cx="294480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13480" y="3398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68640" y="3956040"/>
            <a:ext cx="785880" cy="11174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554880" y="4094280"/>
            <a:ext cx="307800" cy="9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546960" y="4247640"/>
            <a:ext cx="1593720" cy="825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93C-8F00-430E-9A4E-93A7B75C4E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авнение прямой на плоскост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ыраженное в однородных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но, что прямые, соединяющие O с точками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т в плоск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ящей через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ен вид урав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плоск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43640" y="3932280"/>
            <a:ext cx="294480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13480" y="3398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768640" y="3956040"/>
            <a:ext cx="785880" cy="11174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54880" y="4094280"/>
            <a:ext cx="307800" cy="9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546960" y="4247640"/>
            <a:ext cx="1593720" cy="825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42B-1058-4D1E-8DB3-50FDC81066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авнение прямой на плоскост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ыраженное в однородных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но, что прямые, соединяющие O с точками 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т в плоск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ящей через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ен вид урав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плоск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же есть и уравн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днород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3932280"/>
            <a:ext cx="294480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3480" y="3398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768640" y="3956040"/>
            <a:ext cx="785880" cy="11174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54880" y="4094280"/>
            <a:ext cx="307800" cy="9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546960" y="4247640"/>
            <a:ext cx="1593720" cy="825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193-087D-40A0-B9E3-5058DD587E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исто аналит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E44-6114-445D-87E3-B12255B06C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исто аналит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есть тройка действительных чисе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из которы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в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вны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44F-4A99-4E45-90D9-EEDB71B321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исто аналит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есть тройка действительных чисе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из которы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в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вны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Две такие тройк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ют одну и ту же точку, если существует та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DF3-FFB3-46EE-AF10-1A52197E6D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исто аналит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есть тройка действительных чисе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из которы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в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вны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Две такие тройк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ют одну и ту же точку, если существует та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у эти координат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называю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ород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120-1209-4E16-9C46-A409B586E3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70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исто аналит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роективной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есть тройка действительных чисе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из которы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в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вны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Две такие тройк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ют одну и ту же точку, если существует та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у эти координат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называю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ород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Точка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обыкновенная, 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и несобственная, 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689-9100-42E0-AB45-CD6835BB5D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линия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из всех точек (x, y, z), удовлетворяющих уравнению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стоянные чис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равные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A8D-4816-4337-BD3F-659959C240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Точка определяе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своими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ямоуголь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или своими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ляр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595-4738-4F14-A221-237BEF92E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линия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из всех точек (x, y, z), удовлетворяющих уравнению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стоянные чис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равные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бственные точки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яют уравнен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C47-3933-41B9-A9C8-AA81480073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ая линия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из всех точек (x, y, z), удовлетворяющих уравнению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стоянные чис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равные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бственные точки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яют уравнен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уравнение несобствен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5E3-1E09-4B47-835A-5B1850AD583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извольно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 тройка чисел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есть координаты той же прямой, поскольку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яется теми же координатными тройкам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что и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5F2-6D0F-4F09-8044-C759524360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 определения полностью симметричны между точкой и пря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обе определяются тройкой чисел –  однородными координатами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8B6-3255-4681-B821-BE9057F3115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пределения полностью симметричны между точкой и пря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обе определяются тройкой чисел –  однородными координатам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 того, что точк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 на прямой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ается равен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AFE-51BD-4F91-8680-A47731C38F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пределения полностью симметричны между точкой и пря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обе определяются тройкой чисел –  однородными координатам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 того, что точк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 на прямой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ается равен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же есть условие тог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очка с координатам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 на прямой с координатам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767-E914-4D91-9CEA-5DB24927B8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т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· 3 + 1 · 4 + (−5) ·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чает, что точка (3, 4, 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жит на прямой (2, 1, −5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что точка (2, 1, −5) лежит на прямой (3, 4, 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0F9-5F37-4128-8260-F7095171D3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т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· 3 + 1 · 4 + (−5) ·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чает, что точка (3, 4, 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жит на прямой (2, 1, −5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что точка (2, 1, −5) лежит на прямой (3, 4, 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симметрия есть основа двойственност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рям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в проективной геомет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945-3660-43CA-9F9C-8D100BF553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т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· 3 + 1 · 4 + (−5) ·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чает, что точка (3, 4, 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жит на прямой (2, 1, −5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что точка (2, 1, −5) лежит на прямой (3, 4, 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симметрия есть основа двойственност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рям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в проективной геометрии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якое соотношение между точками и прямыми становится некоторым соотношением между прямыми и точками, если координаты точек считать координатами прямых, а координаты прямых – координатами точе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1E9-40A8-47E3-8565-9632E433A06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вклидовой плоскости X, Y о двойственности не может быть речи, т.к. уравнение прямой в обыкнов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имметрично относительно X, Y и a, b,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5E2-B625-4624-851D-9659DFAB41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Точка определяе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своими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ямоуголь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или своими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ляр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Треугольник определяется координат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трех вершин (шесть координа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F5E-01A3-49FE-9DD6-127D32144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вклидовой плоскости X, Y о двойственности не может быть речи, т.к. уравнение прямой в обыкнов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имметрично относительно X, Y и a, b,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ключение в рассмот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ечно удаленны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очек и прям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вает примен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а двой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D3-4AEB-4F0C-B912-82B216C910F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ерехода от однородных координат x, y, z обыкновенной точки P в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 обыкновенным прямоугольным координатам, полагаем X = x / z, Y = y /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7E3-2422-4095-B64E-82A73B346F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ерехода от однородных координат x, y, z обыкновенной точки P в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 обыкновенным прямоугольным координатам, полагаем X = x / z, Y = y /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X, Y обознач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я точки P от дв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пендикулярных о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 и y-ос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5F4-A00A-4E78-9843-815940B81FA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29280" y="2155680"/>
            <a:ext cx="4914720" cy="4702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3932280"/>
            <a:ext cx="294480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13480" y="3398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768640" y="3956040"/>
            <a:ext cx="785880" cy="11174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554880" y="4094280"/>
            <a:ext cx="307800" cy="9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46960" y="4247640"/>
            <a:ext cx="1593720" cy="825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прямую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агая X = x / z, Y = y / z и умножая на z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, что уравн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 же прямой 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х координат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DE5-3845-49CE-BD1E-447B85F8FAF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уравнение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−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ыкновенных прямоугольных координатах X, Y примет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−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825-6CB0-4269-8E58-9197448B43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уравнение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−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ыкновенных прямоугольных координатах X, Y примет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−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меч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оследнему уравнению несобственная точка рассматриваемой прямой с однородными координатами (3, 2, 0) уже не отв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E08-3D6A-4A39-BEC7-0455DBE3AD8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оказать, что проективное преобразование, задается аналитически системой линей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ывающих однородные координаты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z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чек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однородными координатами x, y, z точек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68280" y="1465200"/>
          <a:ext cx="5978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465200"/>
                    <a:ext cx="5978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FAD-AF4F-48CF-82FB-C088DAAE9A2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оказать, что проективное преобразование, задается аналитически системой линей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ывающих однородные координаты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z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чек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однородными координатами x, y, z точек в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теоремы проективной геометрии становятся теоремами о поведении числовых троек (x, y, z) при таких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68280" y="1465200"/>
          <a:ext cx="5978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465200"/>
                    <a:ext cx="5978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C46-A6BE-4BA2-92A2-580A849C72D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1600" y="1974600"/>
            <a:ext cx="797076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Треугольни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473-9177-4534-B380-5F2D9C2C0EA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рагменте прямоугольной координатной сетки точка О – начало координат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 – оси координат, АВ – линия горизон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881-DC8C-49A4-8838-FF23CF99A55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Точка определяе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уголь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или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реугольник определяется координат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трех вершин (шесть координа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ямая линия в плоскост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еометрическое место всех точек P(x, y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координаты которых удовлетворя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уравнен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C21-BFE9-4391-937D-9A96B85F5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рагменте прямоугольной координатной сетки точка О – начало координат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 – оси координат, АВ – линия горизон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ычной системе координ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 была бы пря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 ОВ – прямой Х = 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5DE-9E80-409C-A642-D4BD4D2F618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рагменте прямоугольной координатной сетки точка О – начало координат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 – оси координат, АВ – линия горизон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ычной системе координ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 была бы пря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 ОВ – пря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днородных координат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y, z уравнения практически те же самые. Посколь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/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уравнение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огичн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е прямой 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2BD-2921-48DA-92E8-FE14294F5F5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2646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горизонта АВ – прямая в бесконечности. Её уравне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имеем трехстороннюю симметрию (в отличие от обычной координатной сетки с  двусторонней симметри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имеем три равноправные прямы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5E3-A8A8-4F82-AA32-41D69077F08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реугольник ОАВ – бази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(0, 0, 1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0, 0),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, 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871-8907-496A-8BD7-A0C8CE98536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реугольник ОАВ – бази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(0, 0, 1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0, 0),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, 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ыми координатами, подставив эти значения в уравн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 /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y /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273-1AD9-4736-9CED-BEA74B1E0DB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реугольник ОАВ – бази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(0, 0, 1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0, 0),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, 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ыми координатами, подставив эти значения в уравн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 /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y /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ки О затруднений нет, т.к. Х = 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E49-EAEC-4713-8104-DE189C30734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0"/>
            <a:ext cx="9144000" cy="72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реугольник ОАВ – бази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(0, 0, 1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0, 0),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, 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ыми координатами, подставив эти значения в уравне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 /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y /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ки О затруднений нет, т.к. Х = 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ки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на должна находи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и О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есконеч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м расстоян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ачала координ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там и наход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3B4-6D57-4D6D-9066-123B2BE756D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огично получим для точки В: 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точка В лежит на оси ординат на бесконечном расстоянии от 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9D1-ED07-4A24-B1F3-CB775C7635B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150840" y="0"/>
            <a:ext cx="94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авнения прямых, проходящих через т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638280"/>
          <a:ext cx="9144000" cy="2979720"/>
        </p:xfrm>
        <a:graphic>
          <a:graphicData uri="http://schemas.openxmlformats.org/drawingml/2006/table">
            <a:tbl>
              <a:tblPr/>
              <a:tblGrid>
                <a:gridCol w="1508040"/>
                <a:gridCol w="4224600"/>
                <a:gridCol w="3411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система координа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родные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c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k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370-3825-4A03-B2FE-5134C3F62D2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25800" y="3956040"/>
            <a:ext cx="6118200" cy="2901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поскольку мы им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(1, 0, 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, 0), 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0,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можно рассматривать любую точку (x, y, z) как «смесь» точек А, В, 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xA + yB + 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E8C-B3F5-4F14-A397-104EFB2D82A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Точка определяе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уголь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или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реугольник определяется координат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трех вершин (шесть координа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ямая линия в плоскост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еометрическое место всех точек P(x, y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координаты которых удовлетворя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уравнен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оэтому три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назв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«координатами» эт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4F0-C7E7-466A-9A1B-ED1139CCA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98880" y="2835360"/>
            <a:ext cx="4245120" cy="4022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палит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отнесём цвета с точкам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F48-753A-45B5-BFDB-CC9E156A571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98880" y="2835360"/>
            <a:ext cx="4245120" cy="402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палит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отнесём цвета с точкам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в точке D (середине отрезка АВ) будет нанесена краска, полученная смешиванием красной и зелёной в равных количеств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0FB-217B-4170-BD58-2A401106FD5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98880" y="2835360"/>
            <a:ext cx="4245120" cy="4022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палит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отнесём цвета с точкам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в точ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ередине отрезка АВ) будет нанесена краска, полученная смешивани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равных количеств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ажется смесь рав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о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AF5-FBAC-4424-87E2-5867BF0500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98880" y="2835360"/>
            <a:ext cx="4245120" cy="4022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палит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отнесём цвета с точкам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в точ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ередине отрезка АВ) будет нанесена краска, полученная смешивани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равных количеств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ажется смесь рав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о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центр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) будет смесь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елё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ок в рав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280-8EFE-41C3-9245-87FA11DFCAE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65600" y="3056040"/>
            <a:ext cx="4478400" cy="3801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развернуть плоскость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сколько иным способом, т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ундаментальными прям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яющими наш треугольник) будут линии пересечения с координатными плоскостями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592-63F9-4DFA-9802-F82C6AD1ACE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65600" y="3056040"/>
            <a:ext cx="4478400" cy="3801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развернуть плоскость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сколько иным способом, т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ундаментальными прям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яющими наш треугольник) будут линии пересечения с координатными плоскостями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шины так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–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ундаментальные точ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 них хотя бы од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вная координа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а нул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FCE-473F-4F8A-8F6A-6C025C6EBE8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C7D-FF63-428E-86BA-26547389A20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Точка определяе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уголь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или своим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ординат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реугольник определяется координат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трех вершин (шесть координа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ямая линия в плоскост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еометрическое место всех точек P(x, y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координаты которых удовлетворя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уравнен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оэтому три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назв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«координатами» эт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Конические сечения: окружность, эллипс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87E-957E-4EB0-8D1F-3D5051A1A5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есть, отталкиваемся от множества чис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х пар чисел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ек чисел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BA8-0C5F-48DE-B47C-B5F92DF2C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Admin</cp:lastModifiedBy>
  <dcterms:modified xsi:type="dcterms:W3CDTF">2016-03-22T19:05:33Z</dcterms:modified>
  <cp:revision>1559</cp:revision>
  <dc:subject/>
  <dc:title>Основы математического моделирования в педагогических измерениях</dc:title>
</cp:coreProperties>
</file>