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9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11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219-6832-448F-B245-7AD30AF0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863-57D3-4240-9796-B5D137E3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627-3AFE-49BD-B9C3-647CAF48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747-279E-4FE1-96FA-43FA7EC7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45A-5BEB-441A-8B10-F1380546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E45-6A84-4112-8488-5C456A36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9C8-FCBE-4DA4-BADD-890045FF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D97-BDB2-4CC9-A574-DB649DD9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5A4-5C8A-4E4D-9A3F-EE89F45A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3FE-FEBC-4247-B86C-193615FF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556-A235-43E3-BD29-AEB02DF5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C6E-A330-4E6F-A5CA-4E80B456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8FFC-14B7-45BA-BCAD-5CDEF5E964CC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8620-702B-4B17-93FF-7EA7AF00B0D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13960" y="1141200"/>
            <a:ext cx="797076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ция №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вой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E55-FA98-4FD1-9AE7-39B3EB5AF1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89503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50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0" y="1430280"/>
          <a:ext cx="89121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30280"/>
                    <a:ext cx="8912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0" y="1393920"/>
            <a:ext cx="5943600" cy="2306520"/>
          </a:xfrm>
          <a:custGeom>
            <a:avLst/>
            <a:gdLst/>
            <a:ahLst/>
            <a:rect l="l" t="t" r="r" b="b"/>
            <a:pathLst>
              <a:path w="16511" h="6410">
                <a:moveTo>
                  <a:pt x="5437" y="3989"/>
                </a:moveTo>
                <a:cubicBezTo>
                  <a:pt x="5307" y="4006"/>
                  <a:pt x="5317" y="3936"/>
                  <a:pt x="5179" y="4048"/>
                </a:cubicBezTo>
                <a:cubicBezTo>
                  <a:pt x="5093" y="4118"/>
                  <a:pt x="4949" y="4284"/>
                  <a:pt x="4901" y="4385"/>
                </a:cubicBezTo>
                <a:cubicBezTo>
                  <a:pt x="4827" y="4540"/>
                  <a:pt x="4807" y="4725"/>
                  <a:pt x="4762" y="4882"/>
                </a:cubicBezTo>
                <a:cubicBezTo>
                  <a:pt x="4717" y="5039"/>
                  <a:pt x="4688" y="5154"/>
                  <a:pt x="4683" y="5318"/>
                </a:cubicBezTo>
                <a:cubicBezTo>
                  <a:pt x="4676" y="5537"/>
                  <a:pt x="4670" y="5755"/>
                  <a:pt x="4663" y="5973"/>
                </a:cubicBezTo>
                <a:cubicBezTo>
                  <a:pt x="4659" y="6107"/>
                  <a:pt x="4663" y="6251"/>
                  <a:pt x="4663" y="6390"/>
                </a:cubicBezTo>
                <a:cubicBezTo>
                  <a:pt x="4663" y="6711"/>
                  <a:pt x="4665" y="6984"/>
                  <a:pt x="4743" y="7283"/>
                </a:cubicBezTo>
                <a:cubicBezTo>
                  <a:pt x="4773" y="7399"/>
                  <a:pt x="4804" y="7518"/>
                  <a:pt x="4882" y="7600"/>
                </a:cubicBezTo>
                <a:cubicBezTo>
                  <a:pt x="4972" y="7695"/>
                  <a:pt x="5093" y="7752"/>
                  <a:pt x="5199" y="7818"/>
                </a:cubicBezTo>
                <a:cubicBezTo>
                  <a:pt x="5331" y="7900"/>
                  <a:pt x="5449" y="7965"/>
                  <a:pt x="5596" y="8017"/>
                </a:cubicBezTo>
                <a:cubicBezTo>
                  <a:pt x="5747" y="8070"/>
                  <a:pt x="5915" y="8105"/>
                  <a:pt x="6072" y="8136"/>
                </a:cubicBezTo>
                <a:cubicBezTo>
                  <a:pt x="6294" y="8180"/>
                  <a:pt x="6526" y="8217"/>
                  <a:pt x="6747" y="8255"/>
                </a:cubicBezTo>
                <a:cubicBezTo>
                  <a:pt x="6970" y="8294"/>
                  <a:pt x="7196" y="8332"/>
                  <a:pt x="7422" y="8334"/>
                </a:cubicBezTo>
                <a:cubicBezTo>
                  <a:pt x="7631" y="8336"/>
                  <a:pt x="7843" y="8326"/>
                  <a:pt x="8037" y="8235"/>
                </a:cubicBezTo>
                <a:cubicBezTo>
                  <a:pt x="8147" y="8184"/>
                  <a:pt x="8267" y="8106"/>
                  <a:pt x="8354" y="8017"/>
                </a:cubicBezTo>
                <a:cubicBezTo>
                  <a:pt x="8454" y="7915"/>
                  <a:pt x="8579" y="7754"/>
                  <a:pt x="8632" y="7620"/>
                </a:cubicBezTo>
                <a:cubicBezTo>
                  <a:pt x="8712" y="7420"/>
                  <a:pt x="8750" y="7197"/>
                  <a:pt x="8791" y="6985"/>
                </a:cubicBezTo>
                <a:cubicBezTo>
                  <a:pt x="8821" y="6829"/>
                  <a:pt x="8827" y="6692"/>
                  <a:pt x="8830" y="6529"/>
                </a:cubicBezTo>
                <a:cubicBezTo>
                  <a:pt x="8833" y="6378"/>
                  <a:pt x="8808" y="6254"/>
                  <a:pt x="8791" y="6112"/>
                </a:cubicBezTo>
                <a:cubicBezTo>
                  <a:pt x="8775" y="5979"/>
                  <a:pt x="8764" y="5848"/>
                  <a:pt x="8751" y="5715"/>
                </a:cubicBezTo>
                <a:cubicBezTo>
                  <a:pt x="8736" y="5570"/>
                  <a:pt x="8698" y="5471"/>
                  <a:pt x="8652" y="5338"/>
                </a:cubicBezTo>
                <a:cubicBezTo>
                  <a:pt x="8612" y="5221"/>
                  <a:pt x="8588" y="5100"/>
                  <a:pt x="8553" y="4981"/>
                </a:cubicBezTo>
                <a:cubicBezTo>
                  <a:pt x="8509" y="4834"/>
                  <a:pt x="8457" y="4673"/>
                  <a:pt x="8374" y="4544"/>
                </a:cubicBezTo>
                <a:cubicBezTo>
                  <a:pt x="8320" y="4461"/>
                  <a:pt x="8208" y="4323"/>
                  <a:pt x="8136" y="4266"/>
                </a:cubicBezTo>
                <a:cubicBezTo>
                  <a:pt x="7997" y="4157"/>
                  <a:pt x="7808" y="4077"/>
                  <a:pt x="7640" y="4028"/>
                </a:cubicBezTo>
                <a:cubicBezTo>
                  <a:pt x="7418" y="3963"/>
                  <a:pt x="7173" y="3948"/>
                  <a:pt x="6945" y="3929"/>
                </a:cubicBezTo>
                <a:cubicBezTo>
                  <a:pt x="6780" y="3915"/>
                  <a:pt x="6614" y="3879"/>
                  <a:pt x="6449" y="3870"/>
                </a:cubicBezTo>
                <a:cubicBezTo>
                  <a:pt x="6158" y="3854"/>
                  <a:pt x="5879" y="3885"/>
                  <a:pt x="5596" y="3949"/>
                </a:cubicBezTo>
              </a:path>
              <a:path w="16511" h="6410">
                <a:moveTo>
                  <a:pt x="8533" y="8096"/>
                </a:moveTo>
                <a:cubicBezTo>
                  <a:pt x="8550" y="8166"/>
                  <a:pt x="8562" y="8225"/>
                  <a:pt x="8592" y="8295"/>
                </a:cubicBezTo>
                <a:cubicBezTo>
                  <a:pt x="8646" y="8423"/>
                  <a:pt x="8742" y="8528"/>
                  <a:pt x="8830" y="8632"/>
                </a:cubicBezTo>
                <a:cubicBezTo>
                  <a:pt x="8921" y="8740"/>
                  <a:pt x="9006" y="8795"/>
                  <a:pt x="9128" y="8870"/>
                </a:cubicBezTo>
                <a:cubicBezTo>
                  <a:pt x="9245" y="8942"/>
                  <a:pt x="9357" y="8998"/>
                  <a:pt x="9485" y="9049"/>
                </a:cubicBezTo>
                <a:cubicBezTo>
                  <a:pt x="9642" y="9111"/>
                  <a:pt x="9797" y="9158"/>
                  <a:pt x="9962" y="9188"/>
                </a:cubicBezTo>
                <a:cubicBezTo>
                  <a:pt x="10125" y="9217"/>
                  <a:pt x="10294" y="9238"/>
                  <a:pt x="10458" y="9247"/>
                </a:cubicBezTo>
                <a:cubicBezTo>
                  <a:pt x="10629" y="9257"/>
                  <a:pt x="10798" y="9215"/>
                  <a:pt x="10954" y="9148"/>
                </a:cubicBezTo>
                <a:cubicBezTo>
                  <a:pt x="11138" y="9069"/>
                  <a:pt x="11277" y="8959"/>
                  <a:pt x="11410" y="8811"/>
                </a:cubicBezTo>
                <a:cubicBezTo>
                  <a:pt x="11548" y="8658"/>
                  <a:pt x="11619" y="8501"/>
                  <a:pt x="11728" y="8334"/>
                </a:cubicBezTo>
                <a:cubicBezTo>
                  <a:pt x="11800" y="8224"/>
                  <a:pt x="11830" y="8153"/>
                  <a:pt x="11867" y="8037"/>
                </a:cubicBezTo>
                <a:cubicBezTo>
                  <a:pt x="11821" y="8041"/>
                  <a:pt x="11800" y="8002"/>
                  <a:pt x="11728" y="8057"/>
                </a:cubicBezTo>
                <a:cubicBezTo>
                  <a:pt x="11706" y="8100"/>
                  <a:pt x="11696" y="8116"/>
                  <a:pt x="11668" y="8136"/>
                </a:cubicBezTo>
                <a:cubicBezTo>
                  <a:pt x="11690" y="8067"/>
                  <a:pt x="11674" y="8020"/>
                  <a:pt x="11708" y="7957"/>
                </a:cubicBezTo>
                <a:cubicBezTo>
                  <a:pt x="11739" y="7899"/>
                  <a:pt x="11798" y="7782"/>
                  <a:pt x="11847" y="7739"/>
                </a:cubicBezTo>
                <a:cubicBezTo>
                  <a:pt x="11870" y="7716"/>
                  <a:pt x="11880" y="7710"/>
                  <a:pt x="11906" y="7719"/>
                </a:cubicBezTo>
                <a:cubicBezTo>
                  <a:pt x="11906" y="7870"/>
                  <a:pt x="11913" y="8007"/>
                  <a:pt x="11946" y="8156"/>
                </a:cubicBezTo>
              </a:path>
              <a:path w="16511" h="6410">
                <a:moveTo>
                  <a:pt x="3473" y="4108"/>
                </a:moveTo>
                <a:cubicBezTo>
                  <a:pt x="3384" y="4054"/>
                  <a:pt x="3313" y="4006"/>
                  <a:pt x="3215" y="3969"/>
                </a:cubicBezTo>
                <a:cubicBezTo>
                  <a:pt x="3103" y="3927"/>
                  <a:pt x="2978" y="3915"/>
                  <a:pt x="2858" y="3909"/>
                </a:cubicBezTo>
                <a:cubicBezTo>
                  <a:pt x="2690" y="3901"/>
                  <a:pt x="2527" y="3923"/>
                  <a:pt x="2361" y="3929"/>
                </a:cubicBezTo>
                <a:cubicBezTo>
                  <a:pt x="2121" y="3937"/>
                  <a:pt x="1885" y="3924"/>
                  <a:pt x="1647" y="3949"/>
                </a:cubicBezTo>
                <a:cubicBezTo>
                  <a:pt x="1463" y="3969"/>
                  <a:pt x="1285" y="4011"/>
                  <a:pt x="1111" y="4068"/>
                </a:cubicBezTo>
                <a:cubicBezTo>
                  <a:pt x="976" y="4112"/>
                  <a:pt x="821" y="4169"/>
                  <a:pt x="695" y="4227"/>
                </a:cubicBezTo>
                <a:cubicBezTo>
                  <a:pt x="610" y="4267"/>
                  <a:pt x="496" y="4301"/>
                  <a:pt x="417" y="4346"/>
                </a:cubicBezTo>
                <a:cubicBezTo>
                  <a:pt x="359" y="4379"/>
                  <a:pt x="310" y="4455"/>
                  <a:pt x="258" y="4505"/>
                </a:cubicBezTo>
                <a:cubicBezTo>
                  <a:pt x="192" y="4569"/>
                  <a:pt x="140" y="4633"/>
                  <a:pt x="99" y="4703"/>
                </a:cubicBezTo>
                <a:cubicBezTo>
                  <a:pt x="60" y="4768"/>
                  <a:pt x="36" y="4851"/>
                  <a:pt x="20" y="4921"/>
                </a:cubicBezTo>
                <a:cubicBezTo>
                  <a:pt x="-13" y="5063"/>
                  <a:pt x="0" y="5212"/>
                  <a:pt x="0" y="5358"/>
                </a:cubicBezTo>
                <a:cubicBezTo>
                  <a:pt x="0" y="5674"/>
                  <a:pt x="15" y="5965"/>
                  <a:pt x="60" y="6271"/>
                </a:cubicBezTo>
                <a:cubicBezTo>
                  <a:pt x="79" y="6403"/>
                  <a:pt x="93" y="6554"/>
                  <a:pt x="99" y="6687"/>
                </a:cubicBezTo>
                <a:cubicBezTo>
                  <a:pt x="106" y="6860"/>
                  <a:pt x="126" y="7017"/>
                  <a:pt x="159" y="7183"/>
                </a:cubicBezTo>
                <a:cubicBezTo>
                  <a:pt x="182" y="7300"/>
                  <a:pt x="183" y="7428"/>
                  <a:pt x="218" y="7541"/>
                </a:cubicBezTo>
                <a:cubicBezTo>
                  <a:pt x="253" y="7655"/>
                  <a:pt x="333" y="7795"/>
                  <a:pt x="397" y="7898"/>
                </a:cubicBezTo>
                <a:cubicBezTo>
                  <a:pt x="465" y="8008"/>
                  <a:pt x="549" y="8102"/>
                  <a:pt x="655" y="8176"/>
                </a:cubicBezTo>
                <a:cubicBezTo>
                  <a:pt x="823" y="8293"/>
                  <a:pt x="1052" y="8309"/>
                  <a:pt x="1250" y="8315"/>
                </a:cubicBezTo>
                <a:cubicBezTo>
                  <a:pt x="1668" y="8328"/>
                  <a:pt x="2067" y="8294"/>
                  <a:pt x="2480" y="8235"/>
                </a:cubicBezTo>
                <a:cubicBezTo>
                  <a:pt x="2757" y="8195"/>
                  <a:pt x="3109" y="8194"/>
                  <a:pt x="3373" y="8116"/>
                </a:cubicBezTo>
                <a:cubicBezTo>
                  <a:pt x="3473" y="8086"/>
                  <a:pt x="3604" y="8034"/>
                  <a:pt x="3711" y="7997"/>
                </a:cubicBezTo>
                <a:cubicBezTo>
                  <a:pt x="3814" y="7961"/>
                  <a:pt x="3905" y="7912"/>
                  <a:pt x="3969" y="7818"/>
                </a:cubicBezTo>
                <a:cubicBezTo>
                  <a:pt x="4041" y="7713"/>
                  <a:pt x="4057" y="7564"/>
                  <a:pt x="4088" y="7441"/>
                </a:cubicBezTo>
                <a:cubicBezTo>
                  <a:pt x="4129" y="7279"/>
                  <a:pt x="4150" y="7129"/>
                  <a:pt x="4167" y="6965"/>
                </a:cubicBezTo>
                <a:cubicBezTo>
                  <a:pt x="4188" y="6761"/>
                  <a:pt x="4205" y="6555"/>
                  <a:pt x="4207" y="6350"/>
                </a:cubicBezTo>
                <a:cubicBezTo>
                  <a:pt x="4210" y="6104"/>
                  <a:pt x="4205" y="5860"/>
                  <a:pt x="4187" y="5616"/>
                </a:cubicBezTo>
                <a:cubicBezTo>
                  <a:pt x="4169" y="5374"/>
                  <a:pt x="4148" y="5186"/>
                  <a:pt x="4068" y="4961"/>
                </a:cubicBezTo>
                <a:cubicBezTo>
                  <a:pt x="4014" y="4809"/>
                  <a:pt x="3952" y="4694"/>
                  <a:pt x="3870" y="4564"/>
                </a:cubicBezTo>
                <a:cubicBezTo>
                  <a:pt x="3811" y="4470"/>
                  <a:pt x="3765" y="4408"/>
                  <a:pt x="3691" y="4326"/>
                </a:cubicBezTo>
                <a:cubicBezTo>
                  <a:pt x="3595" y="4221"/>
                  <a:pt x="3511" y="4172"/>
                  <a:pt x="3393" y="4108"/>
                </a:cubicBezTo>
                <a:cubicBezTo>
                  <a:pt x="3380" y="4101"/>
                  <a:pt x="3367" y="4095"/>
                  <a:pt x="3354" y="4088"/>
                </a:cubicBezTo>
              </a:path>
              <a:path w="16511" h="6410">
                <a:moveTo>
                  <a:pt x="2977" y="8354"/>
                </a:moveTo>
                <a:cubicBezTo>
                  <a:pt x="3024" y="8405"/>
                  <a:pt x="3066" y="8459"/>
                  <a:pt x="3115" y="8513"/>
                </a:cubicBezTo>
                <a:cubicBezTo>
                  <a:pt x="3314" y="8735"/>
                  <a:pt x="3517" y="8946"/>
                  <a:pt x="3770" y="9108"/>
                </a:cubicBezTo>
                <a:cubicBezTo>
                  <a:pt x="3961" y="9230"/>
                  <a:pt x="4171" y="9321"/>
                  <a:pt x="4385" y="9386"/>
                </a:cubicBezTo>
                <a:cubicBezTo>
                  <a:pt x="4666" y="9472"/>
                  <a:pt x="4956" y="9496"/>
                  <a:pt x="5239" y="9565"/>
                </a:cubicBezTo>
                <a:cubicBezTo>
                  <a:pt x="5640" y="9662"/>
                  <a:pt x="6041" y="9762"/>
                  <a:pt x="6449" y="9842"/>
                </a:cubicBezTo>
                <a:cubicBezTo>
                  <a:pt x="7085" y="9966"/>
                  <a:pt x="7731" y="10064"/>
                  <a:pt x="8374" y="10140"/>
                </a:cubicBezTo>
                <a:cubicBezTo>
                  <a:pt x="8724" y="10181"/>
                  <a:pt x="9074" y="10213"/>
                  <a:pt x="9426" y="10239"/>
                </a:cubicBezTo>
                <a:cubicBezTo>
                  <a:pt x="9776" y="10265"/>
                  <a:pt x="10127" y="10276"/>
                  <a:pt x="10478" y="10279"/>
                </a:cubicBezTo>
                <a:cubicBezTo>
                  <a:pt x="10818" y="10282"/>
                  <a:pt x="11171" y="10275"/>
                  <a:pt x="11509" y="10239"/>
                </a:cubicBezTo>
                <a:cubicBezTo>
                  <a:pt x="11842" y="10204"/>
                  <a:pt x="12170" y="10143"/>
                  <a:pt x="12502" y="10100"/>
                </a:cubicBezTo>
                <a:cubicBezTo>
                  <a:pt x="13402" y="9982"/>
                  <a:pt x="14265" y="9784"/>
                  <a:pt x="14962" y="9168"/>
                </a:cubicBezTo>
                <a:cubicBezTo>
                  <a:pt x="15317" y="8854"/>
                  <a:pt x="15666" y="8508"/>
                  <a:pt x="15935" y="8116"/>
                </a:cubicBezTo>
                <a:cubicBezTo>
                  <a:pt x="16025" y="7984"/>
                  <a:pt x="16182" y="7758"/>
                  <a:pt x="16212" y="7600"/>
                </a:cubicBezTo>
                <a:cubicBezTo>
                  <a:pt x="16223" y="7542"/>
                  <a:pt x="16093" y="7616"/>
                  <a:pt x="16093" y="7600"/>
                </a:cubicBezTo>
                <a:cubicBezTo>
                  <a:pt x="16100" y="7593"/>
                  <a:pt x="16106" y="7587"/>
                  <a:pt x="16113" y="7580"/>
                </a:cubicBezTo>
                <a:cubicBezTo>
                  <a:pt x="16200" y="7574"/>
                  <a:pt x="16374" y="7381"/>
                  <a:pt x="16470" y="7521"/>
                </a:cubicBezTo>
                <a:cubicBezTo>
                  <a:pt x="16535" y="7616"/>
                  <a:pt x="16479" y="7761"/>
                  <a:pt x="16510" y="785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68D-E427-44CD-B857-D4F9438EA6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89503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50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1430280"/>
          <a:ext cx="89121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30280"/>
                    <a:ext cx="8912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0" y="2795760"/>
          <a:ext cx="66279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95760"/>
                    <a:ext cx="662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A60-B17B-4D9D-9C56-48EC91A689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89503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50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0" y="1430280"/>
          <a:ext cx="89121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30280"/>
                    <a:ext cx="8912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0" y="2795760"/>
          <a:ext cx="66279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95760"/>
                    <a:ext cx="662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0" y="4145040"/>
          <a:ext cx="883764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145040"/>
                    <a:ext cx="8837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ABA-8C15-4B9C-8772-0DD954ACB8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89503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50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0" y="1430280"/>
          <a:ext cx="89121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30280"/>
                    <a:ext cx="8912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0" y="2795760"/>
          <a:ext cx="66279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95760"/>
                    <a:ext cx="662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0" y="5562720"/>
          <a:ext cx="887580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562720"/>
                    <a:ext cx="88758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0" y="4145040"/>
          <a:ext cx="883764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145040"/>
                    <a:ext cx="8837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DE5-B354-4B2A-B64B-5D4DAD2184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50800" y="0"/>
          <a:ext cx="8593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0"/>
                    <a:ext cx="8593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1DE-03D5-482E-AE3C-509E071BFB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50800" y="0"/>
          <a:ext cx="8593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0"/>
                    <a:ext cx="8593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3636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Теорема.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Двойное отношение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               четырёх точек прямой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               не изменяется при перестановке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               базисной и делящей пары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               с сохранением порядка точек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               внутри каждой пары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или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при изменении порядка точек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               в обеих па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335-370A-4D14-B431-4FCB61B011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52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Математика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наука эксперимента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ладимир Игоревич Арноль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C1A-477B-4A50-9B6F-A090B7D414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Математика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наука эксперимента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ладимир Игоревич Арноль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опробуем эмпирически подобрать форму записи двойного отношения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09760" y="3767040"/>
          <a:ext cx="26654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9760" y="3767040"/>
                    <a:ext cx="26654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1BC-5946-4C9B-81D7-FD3BFA5D7E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г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704880"/>
          <a:ext cx="91440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04880"/>
                    <a:ext cx="914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F8D-851B-43EF-86D9-3D953A7FCD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86979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9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B82-B625-4A3C-912A-388B9094AC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йное отношение точек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зятых в указанном поряд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базис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делящ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05120" y="1204920"/>
          <a:ext cx="495144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04920"/>
                    <a:ext cx="49514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7B5-946A-4F78-8618-E7E3AC2BF8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0"/>
          <a:ext cx="86979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9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0" y="1368360"/>
          <a:ext cx="866124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68360"/>
                    <a:ext cx="86612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692-223F-496C-82E9-190CF62D43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0"/>
          <a:ext cx="86979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9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0" y="1368360"/>
          <a:ext cx="866124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68360"/>
                    <a:ext cx="86612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0" y="2787480"/>
          <a:ext cx="914400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87480"/>
                    <a:ext cx="91440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031-EED5-443F-828C-0727332971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86979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9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0" y="1368360"/>
          <a:ext cx="866124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68360"/>
                    <a:ext cx="86612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0" y="2787480"/>
          <a:ext cx="914400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87480"/>
                    <a:ext cx="91440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0" y="4192560"/>
          <a:ext cx="866124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192560"/>
                    <a:ext cx="86612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CBD-A659-495F-BFC7-298F093A30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86979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97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0" y="1368360"/>
          <a:ext cx="866124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68360"/>
                    <a:ext cx="86612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0" y="2787480"/>
          <a:ext cx="914400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87480"/>
                    <a:ext cx="91440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0" y="4192560"/>
          <a:ext cx="866124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192560"/>
                    <a:ext cx="86612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0" y="5562720"/>
          <a:ext cx="866124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5562720"/>
                    <a:ext cx="86612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F27-E556-4715-BD13-5C066F3384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550800" y="0"/>
          <a:ext cx="8593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0"/>
                    <a:ext cx="8593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0" y="1019160"/>
          <a:ext cx="91440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19160"/>
                    <a:ext cx="914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08F-2E44-4013-AAD6-DA22BC5FE1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50800" y="0"/>
          <a:ext cx="8593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0"/>
                    <a:ext cx="8593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0" y="1019160"/>
          <a:ext cx="91440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19160"/>
                    <a:ext cx="914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998720" y="558720"/>
            <a:ext cx="5173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63880" y="1569960"/>
            <a:ext cx="5173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7840" y="574560"/>
            <a:ext cx="331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7440" y="574560"/>
            <a:ext cx="331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89280" y="1577880"/>
            <a:ext cx="331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29240" y="1577880"/>
            <a:ext cx="331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550800"/>
            <a:ext cx="5173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46600" y="558720"/>
            <a:ext cx="331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86560" y="558720"/>
            <a:ext cx="331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04080" y="1569960"/>
            <a:ext cx="582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62960" y="1554120"/>
            <a:ext cx="331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602560" y="1554120"/>
            <a:ext cx="331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06520" y="639720"/>
            <a:ext cx="792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30280" y="647640"/>
            <a:ext cx="179712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288120" y="631800"/>
            <a:ext cx="6336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51480" y="639720"/>
            <a:ext cx="187812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6EE-367A-41C2-9185-F219156CE4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50800" y="0"/>
          <a:ext cx="8593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0"/>
                    <a:ext cx="8593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0" y="1019160"/>
          <a:ext cx="91440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19160"/>
                    <a:ext cx="914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998720" y="558720"/>
            <a:ext cx="5173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63880" y="1569960"/>
            <a:ext cx="5173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17840" y="574560"/>
            <a:ext cx="331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7440" y="574560"/>
            <a:ext cx="331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89280" y="1577880"/>
            <a:ext cx="331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29240" y="1577880"/>
            <a:ext cx="331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550800"/>
            <a:ext cx="5173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46600" y="558720"/>
            <a:ext cx="331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6560" y="558720"/>
            <a:ext cx="331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04080" y="1569960"/>
            <a:ext cx="582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2960" y="1554120"/>
            <a:ext cx="331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02560" y="1554120"/>
            <a:ext cx="331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06520" y="639720"/>
            <a:ext cx="792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30280" y="647640"/>
            <a:ext cx="179712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288120" y="631800"/>
            <a:ext cx="6336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1480" y="639720"/>
            <a:ext cx="187812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5970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Теорема.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При перестановке двух средних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                или двух крайних точек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                двойное отношение заменяется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               на дополнение его до единиц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15C-70B1-44EB-BE61-B6E65E8B39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052640"/>
          <a:ext cx="757872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757872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17A-E35D-4A00-A3E0-7846A9367C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0" y="0"/>
          <a:ext cx="89121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2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7E4-692C-461D-A253-E748809F32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0" y="0"/>
          <a:ext cx="89121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2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0" y="1368360"/>
          <a:ext cx="891216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68360"/>
                    <a:ext cx="8912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8E7-7F86-4649-8560-4ED0BB3DE9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йное отношение точек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зятых в указанном поряд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базис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делящ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Теорема.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Если даны три различные точк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и действительное число </a:t>
            </a: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0, т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существует единственная такая точка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D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этой прямой, что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) = </a:t>
            </a: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905120" y="1204920"/>
          <a:ext cx="495144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04920"/>
                    <a:ext cx="49514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2EC-296D-4ABE-BA29-D653C692F4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0"/>
          <a:ext cx="89121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2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0" y="1368360"/>
          <a:ext cx="891216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68360"/>
                    <a:ext cx="8912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0" y="2746440"/>
          <a:ext cx="914400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46440"/>
                    <a:ext cx="9144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906-F059-4DAC-8C6B-744CDF3B9E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89121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2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0" y="1368360"/>
          <a:ext cx="891216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68360"/>
                    <a:ext cx="8912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0" y="2746440"/>
          <a:ext cx="914400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46440"/>
                    <a:ext cx="9144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0" y="4119480"/>
          <a:ext cx="8836200" cy="129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119480"/>
                    <a:ext cx="88362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A40-3A84-4073-BFF2-6AAEB8602C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0"/>
          <a:ext cx="89121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2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0" y="1368360"/>
          <a:ext cx="891216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68360"/>
                    <a:ext cx="8912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0" y="2746440"/>
          <a:ext cx="914400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46440"/>
                    <a:ext cx="9144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0" y="4119480"/>
          <a:ext cx="8836200" cy="129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119480"/>
                    <a:ext cx="88362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-19080" y="5562720"/>
          <a:ext cx="887400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-19080" y="5562720"/>
                    <a:ext cx="8874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24E-1D0B-43DC-A9D3-DDEA06B201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550800" y="0"/>
          <a:ext cx="8593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0"/>
                    <a:ext cx="8593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0" y="1001880"/>
          <a:ext cx="914400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01880"/>
                    <a:ext cx="9144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79520" y="1755720"/>
          <a:ext cx="8664480" cy="11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20" y="1755720"/>
                    <a:ext cx="86644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0FB-AFBB-4D15-B071-DEFAF410DE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50800" y="0"/>
          <a:ext cx="8593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0"/>
                    <a:ext cx="8593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0" y="1001880"/>
          <a:ext cx="914400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01880"/>
                    <a:ext cx="9144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479520" y="1755720"/>
          <a:ext cx="8664480" cy="11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20" y="1755720"/>
                    <a:ext cx="86644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0" y="31194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Теорема.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При изменении порядка точек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                только в одной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                из базисной или делящей пары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                двойное отношение заменяется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                его обратной велич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979-45CA-43A5-89A1-EEB3E5504B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66920" y="1512720"/>
            <a:ext cx="7777080" cy="655920"/>
          </a:xfrm>
          <a:prstGeom prst="rect">
            <a:avLst/>
          </a:prstGeom>
          <a:solidFill>
            <a:srgbClr val="ffe7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50800" y="0"/>
          <a:ext cx="8593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0"/>
                    <a:ext cx="8593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0" y="709560"/>
          <a:ext cx="91440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09560"/>
                    <a:ext cx="914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79520" y="1268280"/>
          <a:ext cx="8664480" cy="11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20" y="1268280"/>
                    <a:ext cx="86644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0" y="2389320"/>
          <a:ext cx="2598840" cy="118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389320"/>
                    <a:ext cx="259884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419120" y="3483000"/>
          <a:ext cx="772488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19120" y="3483000"/>
                    <a:ext cx="7724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2908080" y="2292480"/>
            <a:ext cx="5571000" cy="1068840"/>
          </a:xfrm>
          <a:prstGeom prst="rect">
            <a:avLst/>
          </a:prstGeom>
          <a:solidFill>
            <a:srgbClr val="c8ffc8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Перестановка двух средних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Arial Unicode MS"/>
              </a:rPr>
              <a:t>или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 двух крайних т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FDB-1453-42D2-8CC1-D69544EE7F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424160" y="768240"/>
            <a:ext cx="7719840" cy="639720"/>
          </a:xfrm>
          <a:prstGeom prst="rect">
            <a:avLst/>
          </a:prstGeom>
          <a:solidFill>
            <a:srgbClr val="ffe7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50800" y="0"/>
          <a:ext cx="8593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0"/>
                    <a:ext cx="8593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0" y="709560"/>
          <a:ext cx="91440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09560"/>
                    <a:ext cx="914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79520" y="1236600"/>
          <a:ext cx="8664480" cy="11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20" y="1236600"/>
                    <a:ext cx="86644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0" y="2389320"/>
          <a:ext cx="2598840" cy="118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389320"/>
                    <a:ext cx="259884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419120" y="3483000"/>
          <a:ext cx="772488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19120" y="3483000"/>
                    <a:ext cx="7724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0" y="3892680"/>
          <a:ext cx="9180360" cy="1180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3892680"/>
                    <a:ext cx="918036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2447280" y="2271600"/>
            <a:ext cx="6927480" cy="1068840"/>
          </a:xfrm>
          <a:prstGeom prst="rect">
            <a:avLst/>
          </a:prstGeom>
          <a:solidFill>
            <a:srgbClr val="c8ffc8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Изменение порядка точек </a:t>
            </a: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Arial Unicode MS"/>
              </a:rPr>
              <a:t>только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в базисной </a:t>
            </a: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Arial Unicode MS"/>
              </a:rPr>
              <a:t>или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 делящей п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E63-0F54-40BB-AB18-F820A467CFA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432080" y="4159080"/>
            <a:ext cx="7711920" cy="679680"/>
          </a:xfrm>
          <a:prstGeom prst="rect">
            <a:avLst/>
          </a:prstGeom>
          <a:solidFill>
            <a:srgbClr val="ffe7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50800" y="0"/>
          <a:ext cx="8593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0"/>
                    <a:ext cx="8593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0" y="709560"/>
          <a:ext cx="91440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09560"/>
                    <a:ext cx="914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479520" y="1236600"/>
          <a:ext cx="8664480" cy="11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20" y="1236600"/>
                    <a:ext cx="86644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0" y="2389320"/>
          <a:ext cx="2598840" cy="118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389320"/>
                    <a:ext cx="259884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419120" y="3483000"/>
          <a:ext cx="772488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19120" y="3483000"/>
                    <a:ext cx="7724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0" y="3892680"/>
          <a:ext cx="9180360" cy="1180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3892680"/>
                    <a:ext cx="918036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0" y="5049720"/>
          <a:ext cx="5197320" cy="1181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5049720"/>
                    <a:ext cx="5197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419120" y="6210360"/>
          <a:ext cx="7724880" cy="647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19120" y="6210360"/>
                    <a:ext cx="7724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973240" y="2292480"/>
            <a:ext cx="5571000" cy="1068840"/>
          </a:xfrm>
          <a:prstGeom prst="rect">
            <a:avLst/>
          </a:prstGeom>
          <a:solidFill>
            <a:srgbClr val="c8ffc8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Перестановка двух средних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Arial Unicode MS"/>
              </a:rPr>
              <a:t>или</a:t>
            </a:r>
            <a:r>
              <a:rPr b="0" i="1" lang="en-US" sz="3200" spc="-1" strike="noStrike">
                <a:solidFill>
                  <a:srgbClr val="0000ff"/>
                </a:solidFill>
                <a:latin typeface="Arial Unicode MS"/>
              </a:rPr>
              <a:t> двух крайних т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42B-0639-4761-9D52-7DE80BF38A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случае гармонического отно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479600" y="1979640"/>
          <a:ext cx="620712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1979640"/>
                    <a:ext cx="6207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886-F856-46F5-8A35-34BFD1A74E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7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Существует всего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различных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значений двойного отно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639880" y="1979640"/>
          <a:ext cx="38847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1979640"/>
                    <a:ext cx="38847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727-04E9-4E50-AB5F-2B479225E1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0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Выполним некоторые пре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олучим 3 базовых значени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и 3 от них произ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979640"/>
          <a:ext cx="91440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79640"/>
                    <a:ext cx="9144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685960" y="3629160"/>
            <a:ext cx="5886720" cy="1114200"/>
          </a:xfrm>
          <a:custGeom>
            <a:avLst/>
            <a:gdLst/>
            <a:ahLst/>
            <a:rect l="l" t="t" r="r" b="b"/>
            <a:pathLst>
              <a:path w="16352" h="3096">
                <a:moveTo>
                  <a:pt x="7560" y="10081"/>
                </a:moveTo>
                <a:cubicBezTo>
                  <a:pt x="7549" y="10146"/>
                  <a:pt x="7527" y="10244"/>
                  <a:pt x="7521" y="10319"/>
                </a:cubicBezTo>
                <a:cubicBezTo>
                  <a:pt x="7509" y="10471"/>
                  <a:pt x="7500" y="10552"/>
                  <a:pt x="7521" y="10696"/>
                </a:cubicBezTo>
                <a:cubicBezTo>
                  <a:pt x="7547" y="10879"/>
                  <a:pt x="7440" y="10929"/>
                  <a:pt x="7481" y="11073"/>
                </a:cubicBezTo>
                <a:cubicBezTo>
                  <a:pt x="7529" y="11245"/>
                  <a:pt x="7632" y="11404"/>
                  <a:pt x="7699" y="11569"/>
                </a:cubicBezTo>
                <a:cubicBezTo>
                  <a:pt x="7778" y="11762"/>
                  <a:pt x="7883" y="11968"/>
                  <a:pt x="7997" y="12144"/>
                </a:cubicBezTo>
                <a:cubicBezTo>
                  <a:pt x="8100" y="12303"/>
                  <a:pt x="8241" y="12506"/>
                  <a:pt x="8374" y="12640"/>
                </a:cubicBezTo>
                <a:cubicBezTo>
                  <a:pt x="8481" y="12747"/>
                  <a:pt x="8603" y="12839"/>
                  <a:pt x="8731" y="12918"/>
                </a:cubicBezTo>
                <a:cubicBezTo>
                  <a:pt x="8854" y="12994"/>
                  <a:pt x="8929" y="13023"/>
                  <a:pt x="9069" y="13057"/>
                </a:cubicBezTo>
                <a:cubicBezTo>
                  <a:pt x="9228" y="13095"/>
                  <a:pt x="9365" y="13112"/>
                  <a:pt x="9525" y="13057"/>
                </a:cubicBezTo>
                <a:cubicBezTo>
                  <a:pt x="9658" y="13011"/>
                  <a:pt x="9809" y="12942"/>
                  <a:pt x="9922" y="12859"/>
                </a:cubicBezTo>
                <a:cubicBezTo>
                  <a:pt x="10058" y="12759"/>
                  <a:pt x="10111" y="12668"/>
                  <a:pt x="10180" y="12521"/>
                </a:cubicBezTo>
                <a:cubicBezTo>
                  <a:pt x="10245" y="12382"/>
                  <a:pt x="10274" y="12230"/>
                  <a:pt x="10319" y="12085"/>
                </a:cubicBezTo>
              </a:path>
              <a:path w="16352" h="3096">
                <a:moveTo>
                  <a:pt x="10061" y="12561"/>
                </a:moveTo>
                <a:cubicBezTo>
                  <a:pt x="10102" y="12630"/>
                  <a:pt x="10133" y="12710"/>
                  <a:pt x="10180" y="12779"/>
                </a:cubicBezTo>
                <a:cubicBezTo>
                  <a:pt x="10245" y="12875"/>
                  <a:pt x="10339" y="13019"/>
                  <a:pt x="10438" y="13077"/>
                </a:cubicBezTo>
                <a:cubicBezTo>
                  <a:pt x="10626" y="13187"/>
                  <a:pt x="10825" y="13172"/>
                  <a:pt x="11033" y="13176"/>
                </a:cubicBezTo>
                <a:cubicBezTo>
                  <a:pt x="11541" y="13187"/>
                  <a:pt x="12054" y="13180"/>
                  <a:pt x="12561" y="13156"/>
                </a:cubicBezTo>
                <a:cubicBezTo>
                  <a:pt x="12991" y="13135"/>
                  <a:pt x="13422" y="13140"/>
                  <a:pt x="13851" y="13117"/>
                </a:cubicBezTo>
                <a:cubicBezTo>
                  <a:pt x="14640" y="13074"/>
                  <a:pt x="15423" y="13064"/>
                  <a:pt x="16212" y="13037"/>
                </a:cubicBezTo>
                <a:cubicBezTo>
                  <a:pt x="16919" y="13013"/>
                  <a:pt x="17630" y="13007"/>
                  <a:pt x="18336" y="13018"/>
                </a:cubicBezTo>
                <a:cubicBezTo>
                  <a:pt x="19143" y="13030"/>
                  <a:pt x="19950" y="12967"/>
                  <a:pt x="20757" y="12998"/>
                </a:cubicBezTo>
                <a:cubicBezTo>
                  <a:pt x="21108" y="13011"/>
                  <a:pt x="21458" y="13044"/>
                  <a:pt x="21808" y="13057"/>
                </a:cubicBezTo>
                <a:cubicBezTo>
                  <a:pt x="22133" y="13069"/>
                  <a:pt x="22456" y="13084"/>
                  <a:pt x="22781" y="13057"/>
                </a:cubicBezTo>
                <a:cubicBezTo>
                  <a:pt x="22896" y="13047"/>
                  <a:pt x="23075" y="13058"/>
                  <a:pt x="23178" y="12998"/>
                </a:cubicBezTo>
                <a:cubicBezTo>
                  <a:pt x="23217" y="12975"/>
                  <a:pt x="23231" y="13001"/>
                  <a:pt x="23257" y="12978"/>
                </a:cubicBezTo>
                <a:cubicBezTo>
                  <a:pt x="23323" y="12921"/>
                  <a:pt x="23367" y="12752"/>
                  <a:pt x="23416" y="12680"/>
                </a:cubicBezTo>
                <a:cubicBezTo>
                  <a:pt x="23508" y="12545"/>
                  <a:pt x="23603" y="12415"/>
                  <a:pt x="23693" y="12283"/>
                </a:cubicBezTo>
                <a:cubicBezTo>
                  <a:pt x="23719" y="12245"/>
                  <a:pt x="23769" y="12171"/>
                  <a:pt x="23773" y="12164"/>
                </a:cubicBezTo>
                <a:cubicBezTo>
                  <a:pt x="23737" y="12181"/>
                  <a:pt x="23695" y="12206"/>
                  <a:pt x="23654" y="12224"/>
                </a:cubicBezTo>
                <a:cubicBezTo>
                  <a:pt x="23574" y="12259"/>
                  <a:pt x="23498" y="12292"/>
                  <a:pt x="23416" y="12323"/>
                </a:cubicBezTo>
                <a:cubicBezTo>
                  <a:pt x="23368" y="12341"/>
                  <a:pt x="23321" y="12367"/>
                  <a:pt x="23277" y="12382"/>
                </a:cubicBezTo>
                <a:cubicBezTo>
                  <a:pt x="23257" y="12382"/>
                  <a:pt x="23250" y="12382"/>
                  <a:pt x="23237" y="12382"/>
                </a:cubicBezTo>
                <a:cubicBezTo>
                  <a:pt x="23257" y="12369"/>
                  <a:pt x="23284" y="12341"/>
                  <a:pt x="23316" y="12323"/>
                </a:cubicBezTo>
                <a:cubicBezTo>
                  <a:pt x="23363" y="12296"/>
                  <a:pt x="23408" y="12270"/>
                  <a:pt x="23455" y="12244"/>
                </a:cubicBezTo>
                <a:cubicBezTo>
                  <a:pt x="23484" y="12228"/>
                  <a:pt x="23562" y="12165"/>
                  <a:pt x="23594" y="12164"/>
                </a:cubicBezTo>
                <a:cubicBezTo>
                  <a:pt x="23618" y="12163"/>
                  <a:pt x="23647" y="12126"/>
                  <a:pt x="23674" y="12144"/>
                </a:cubicBezTo>
                <a:cubicBezTo>
                  <a:pt x="23716" y="12172"/>
                  <a:pt x="23728" y="12193"/>
                  <a:pt x="23753" y="12244"/>
                </a:cubicBezTo>
                <a:cubicBezTo>
                  <a:pt x="23830" y="12403"/>
                  <a:pt x="23799" y="12651"/>
                  <a:pt x="23812" y="12819"/>
                </a:cubicBezTo>
              </a:path>
              <a:path w="16352" h="3096">
                <a:moveTo>
                  <a:pt x="19883" y="12244"/>
                </a:moveTo>
                <a:cubicBezTo>
                  <a:pt x="19883" y="12208"/>
                  <a:pt x="19886" y="12198"/>
                  <a:pt x="19864" y="12184"/>
                </a:cubicBezTo>
                <a:cubicBezTo>
                  <a:pt x="19906" y="12184"/>
                  <a:pt x="19923" y="12197"/>
                  <a:pt x="19963" y="12204"/>
                </a:cubicBezTo>
                <a:cubicBezTo>
                  <a:pt x="20036" y="12217"/>
                  <a:pt x="20092" y="12201"/>
                  <a:pt x="20161" y="12244"/>
                </a:cubicBezTo>
                <a:cubicBezTo>
                  <a:pt x="20199" y="12268"/>
                  <a:pt x="20217" y="12341"/>
                  <a:pt x="20201" y="12382"/>
                </a:cubicBezTo>
                <a:cubicBezTo>
                  <a:pt x="20188" y="12417"/>
                  <a:pt x="20149" y="12454"/>
                  <a:pt x="20122" y="12482"/>
                </a:cubicBezTo>
                <a:cubicBezTo>
                  <a:pt x="20171" y="12489"/>
                  <a:pt x="20212" y="12500"/>
                  <a:pt x="20260" y="12521"/>
                </a:cubicBezTo>
                <a:cubicBezTo>
                  <a:pt x="20325" y="12550"/>
                  <a:pt x="20345" y="12533"/>
                  <a:pt x="20380" y="12601"/>
                </a:cubicBezTo>
                <a:cubicBezTo>
                  <a:pt x="20410" y="12659"/>
                  <a:pt x="20414" y="12716"/>
                  <a:pt x="20360" y="12760"/>
                </a:cubicBezTo>
                <a:cubicBezTo>
                  <a:pt x="20297" y="12810"/>
                  <a:pt x="20196" y="12820"/>
                  <a:pt x="20122" y="12839"/>
                </a:cubicBezTo>
                <a:cubicBezTo>
                  <a:pt x="20042" y="12859"/>
                  <a:pt x="19964" y="12864"/>
                  <a:pt x="19883" y="128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71880" y="2000160"/>
            <a:ext cx="4485960" cy="1543320"/>
          </a:xfrm>
          <a:custGeom>
            <a:avLst/>
            <a:gdLst/>
            <a:ahLst/>
            <a:rect l="l" t="t" r="r" b="b"/>
            <a:pathLst>
              <a:path w="12463" h="4287">
                <a:moveTo>
                  <a:pt x="18494" y="5735"/>
                </a:moveTo>
                <a:cubicBezTo>
                  <a:pt x="18458" y="5661"/>
                  <a:pt x="18448" y="5642"/>
                  <a:pt x="18375" y="5596"/>
                </a:cubicBezTo>
                <a:cubicBezTo>
                  <a:pt x="18304" y="5552"/>
                  <a:pt x="18216" y="5556"/>
                  <a:pt x="18137" y="5556"/>
                </a:cubicBezTo>
                <a:cubicBezTo>
                  <a:pt x="18042" y="5556"/>
                  <a:pt x="17930" y="5538"/>
                  <a:pt x="17840" y="5576"/>
                </a:cubicBezTo>
                <a:cubicBezTo>
                  <a:pt x="17736" y="5620"/>
                  <a:pt x="17627" y="5701"/>
                  <a:pt x="17542" y="5775"/>
                </a:cubicBezTo>
                <a:cubicBezTo>
                  <a:pt x="17449" y="5855"/>
                  <a:pt x="17362" y="5937"/>
                  <a:pt x="17284" y="6032"/>
                </a:cubicBezTo>
                <a:cubicBezTo>
                  <a:pt x="17181" y="6157"/>
                  <a:pt x="17127" y="6320"/>
                  <a:pt x="17066" y="6469"/>
                </a:cubicBezTo>
                <a:cubicBezTo>
                  <a:pt x="17016" y="6592"/>
                  <a:pt x="17005" y="6697"/>
                  <a:pt x="16986" y="6826"/>
                </a:cubicBezTo>
                <a:cubicBezTo>
                  <a:pt x="16966" y="6962"/>
                  <a:pt x="16976" y="7067"/>
                  <a:pt x="16986" y="7203"/>
                </a:cubicBezTo>
                <a:cubicBezTo>
                  <a:pt x="16994" y="7311"/>
                  <a:pt x="17011" y="7417"/>
                  <a:pt x="17046" y="7521"/>
                </a:cubicBezTo>
                <a:cubicBezTo>
                  <a:pt x="17097" y="7672"/>
                  <a:pt x="17127" y="7817"/>
                  <a:pt x="17205" y="7957"/>
                </a:cubicBezTo>
              </a:path>
              <a:path w="12463" h="4287">
                <a:moveTo>
                  <a:pt x="16847" y="7104"/>
                </a:moveTo>
                <a:cubicBezTo>
                  <a:pt x="16803" y="7108"/>
                  <a:pt x="16743" y="7120"/>
                  <a:pt x="16708" y="7124"/>
                </a:cubicBezTo>
                <a:cubicBezTo>
                  <a:pt x="16581" y="7138"/>
                  <a:pt x="16457" y="7144"/>
                  <a:pt x="16331" y="7164"/>
                </a:cubicBezTo>
                <a:cubicBezTo>
                  <a:pt x="16224" y="7181"/>
                  <a:pt x="16121" y="7193"/>
                  <a:pt x="16014" y="7203"/>
                </a:cubicBezTo>
                <a:cubicBezTo>
                  <a:pt x="15869" y="7216"/>
                  <a:pt x="15723" y="7230"/>
                  <a:pt x="15577" y="7243"/>
                </a:cubicBezTo>
                <a:cubicBezTo>
                  <a:pt x="15448" y="7254"/>
                  <a:pt x="15289" y="7291"/>
                  <a:pt x="15161" y="7283"/>
                </a:cubicBezTo>
                <a:cubicBezTo>
                  <a:pt x="14948" y="7270"/>
                  <a:pt x="14720" y="7336"/>
                  <a:pt x="14506" y="7322"/>
                </a:cubicBezTo>
                <a:cubicBezTo>
                  <a:pt x="14335" y="7311"/>
                  <a:pt x="14234" y="7269"/>
                  <a:pt x="14049" y="7302"/>
                </a:cubicBezTo>
                <a:cubicBezTo>
                  <a:pt x="13740" y="7358"/>
                  <a:pt x="13431" y="7411"/>
                  <a:pt x="13117" y="7461"/>
                </a:cubicBezTo>
                <a:cubicBezTo>
                  <a:pt x="12777" y="7515"/>
                  <a:pt x="12442" y="7573"/>
                  <a:pt x="12105" y="7640"/>
                </a:cubicBezTo>
                <a:cubicBezTo>
                  <a:pt x="11919" y="7677"/>
                  <a:pt x="11734" y="7720"/>
                  <a:pt x="11549" y="7759"/>
                </a:cubicBezTo>
                <a:cubicBezTo>
                  <a:pt x="11368" y="7798"/>
                  <a:pt x="11193" y="7856"/>
                  <a:pt x="11013" y="7898"/>
                </a:cubicBezTo>
                <a:cubicBezTo>
                  <a:pt x="10822" y="7943"/>
                  <a:pt x="10630" y="7976"/>
                  <a:pt x="10438" y="8017"/>
                </a:cubicBezTo>
                <a:cubicBezTo>
                  <a:pt x="10254" y="8056"/>
                  <a:pt x="10067" y="8095"/>
                  <a:pt x="9882" y="8136"/>
                </a:cubicBezTo>
                <a:cubicBezTo>
                  <a:pt x="9649" y="8188"/>
                  <a:pt x="9423" y="8206"/>
                  <a:pt x="9188" y="8235"/>
                </a:cubicBezTo>
                <a:cubicBezTo>
                  <a:pt x="8832" y="8279"/>
                  <a:pt x="8495" y="8311"/>
                  <a:pt x="8136" y="8315"/>
                </a:cubicBezTo>
                <a:cubicBezTo>
                  <a:pt x="7677" y="8320"/>
                  <a:pt x="7220" y="8322"/>
                  <a:pt x="6767" y="8275"/>
                </a:cubicBezTo>
                <a:cubicBezTo>
                  <a:pt x="6676" y="8266"/>
                  <a:pt x="6581" y="8244"/>
                  <a:pt x="6489" y="8255"/>
                </a:cubicBezTo>
                <a:cubicBezTo>
                  <a:pt x="6449" y="8260"/>
                  <a:pt x="6358" y="8268"/>
                  <a:pt x="6330" y="8295"/>
                </a:cubicBezTo>
                <a:cubicBezTo>
                  <a:pt x="6264" y="8357"/>
                  <a:pt x="6280" y="8370"/>
                  <a:pt x="6251" y="8453"/>
                </a:cubicBezTo>
                <a:cubicBezTo>
                  <a:pt x="6200" y="8600"/>
                  <a:pt x="6241" y="8762"/>
                  <a:pt x="6251" y="8910"/>
                </a:cubicBezTo>
                <a:cubicBezTo>
                  <a:pt x="6256" y="8985"/>
                  <a:pt x="6266" y="9055"/>
                  <a:pt x="6271" y="9128"/>
                </a:cubicBezTo>
                <a:cubicBezTo>
                  <a:pt x="6271" y="9134"/>
                  <a:pt x="6271" y="9187"/>
                  <a:pt x="6271" y="9188"/>
                </a:cubicBezTo>
                <a:cubicBezTo>
                  <a:pt x="6211" y="9113"/>
                  <a:pt x="6150" y="9036"/>
                  <a:pt x="6092" y="8969"/>
                </a:cubicBezTo>
                <a:cubicBezTo>
                  <a:pt x="6067" y="8940"/>
                  <a:pt x="6045" y="8925"/>
                  <a:pt x="6032" y="8910"/>
                </a:cubicBezTo>
                <a:cubicBezTo>
                  <a:pt x="6052" y="8932"/>
                  <a:pt x="6035" y="8926"/>
                  <a:pt x="6052" y="8950"/>
                </a:cubicBezTo>
                <a:cubicBezTo>
                  <a:pt x="6089" y="9002"/>
                  <a:pt x="6150" y="9128"/>
                  <a:pt x="6231" y="9148"/>
                </a:cubicBezTo>
                <a:cubicBezTo>
                  <a:pt x="6278" y="9159"/>
                  <a:pt x="6295" y="9195"/>
                  <a:pt x="6350" y="9168"/>
                </a:cubicBezTo>
                <a:cubicBezTo>
                  <a:pt x="6391" y="9148"/>
                  <a:pt x="6421" y="9064"/>
                  <a:pt x="6449" y="9029"/>
                </a:cubicBezTo>
                <a:cubicBezTo>
                  <a:pt x="6473" y="8999"/>
                  <a:pt x="6507" y="8903"/>
                  <a:pt x="6529" y="8870"/>
                </a:cubicBezTo>
              </a:path>
              <a:path w="12463" h="4287">
                <a:moveTo>
                  <a:pt x="16887" y="7898"/>
                </a:moveTo>
                <a:cubicBezTo>
                  <a:pt x="16531" y="7898"/>
                  <a:pt x="16167" y="7944"/>
                  <a:pt x="15815" y="7918"/>
                </a:cubicBezTo>
                <a:cubicBezTo>
                  <a:pt x="15663" y="7907"/>
                  <a:pt x="15514" y="7898"/>
                  <a:pt x="15359" y="7898"/>
                </a:cubicBezTo>
                <a:cubicBezTo>
                  <a:pt x="15244" y="7898"/>
                  <a:pt x="15121" y="7890"/>
                  <a:pt x="15002" y="7898"/>
                </a:cubicBezTo>
                <a:cubicBezTo>
                  <a:pt x="14863" y="7907"/>
                  <a:pt x="14727" y="7918"/>
                  <a:pt x="14585" y="7918"/>
                </a:cubicBezTo>
                <a:cubicBezTo>
                  <a:pt x="14469" y="7918"/>
                  <a:pt x="14362" y="7933"/>
                  <a:pt x="14248" y="7938"/>
                </a:cubicBezTo>
                <a:cubicBezTo>
                  <a:pt x="14134" y="7943"/>
                  <a:pt x="14023" y="7946"/>
                  <a:pt x="13910" y="7957"/>
                </a:cubicBezTo>
                <a:cubicBezTo>
                  <a:pt x="13791" y="7969"/>
                  <a:pt x="13671" y="7984"/>
                  <a:pt x="13553" y="7997"/>
                </a:cubicBezTo>
                <a:cubicBezTo>
                  <a:pt x="13426" y="8011"/>
                  <a:pt x="13303" y="8039"/>
                  <a:pt x="13176" y="8057"/>
                </a:cubicBezTo>
                <a:cubicBezTo>
                  <a:pt x="13025" y="8078"/>
                  <a:pt x="12872" y="8098"/>
                  <a:pt x="12720" y="8116"/>
                </a:cubicBezTo>
                <a:cubicBezTo>
                  <a:pt x="12601" y="8130"/>
                  <a:pt x="12483" y="8144"/>
                  <a:pt x="12363" y="8156"/>
                </a:cubicBezTo>
                <a:cubicBezTo>
                  <a:pt x="12212" y="8171"/>
                  <a:pt x="12055" y="8171"/>
                  <a:pt x="11906" y="8195"/>
                </a:cubicBezTo>
                <a:cubicBezTo>
                  <a:pt x="11793" y="8214"/>
                  <a:pt x="11682" y="8239"/>
                  <a:pt x="11569" y="8255"/>
                </a:cubicBezTo>
                <a:cubicBezTo>
                  <a:pt x="11463" y="8270"/>
                  <a:pt x="11357" y="8273"/>
                  <a:pt x="11251" y="8295"/>
                </a:cubicBezTo>
                <a:cubicBezTo>
                  <a:pt x="11146" y="8317"/>
                  <a:pt x="11052" y="8340"/>
                  <a:pt x="10954" y="8374"/>
                </a:cubicBezTo>
                <a:cubicBezTo>
                  <a:pt x="10855" y="8409"/>
                  <a:pt x="10764" y="8450"/>
                  <a:pt x="10676" y="8513"/>
                </a:cubicBezTo>
                <a:cubicBezTo>
                  <a:pt x="10587" y="8577"/>
                  <a:pt x="10489" y="8667"/>
                  <a:pt x="10418" y="8751"/>
                </a:cubicBezTo>
                <a:cubicBezTo>
                  <a:pt x="10328" y="8857"/>
                  <a:pt x="10279" y="8969"/>
                  <a:pt x="10220" y="9088"/>
                </a:cubicBezTo>
                <a:cubicBezTo>
                  <a:pt x="10151" y="9228"/>
                  <a:pt x="10098" y="9375"/>
                  <a:pt x="10041" y="9525"/>
                </a:cubicBezTo>
                <a:cubicBezTo>
                  <a:pt x="10015" y="9592"/>
                  <a:pt x="10009" y="9645"/>
                  <a:pt x="9981" y="9704"/>
                </a:cubicBezTo>
                <a:cubicBezTo>
                  <a:pt x="9975" y="9710"/>
                  <a:pt x="9968" y="9717"/>
                  <a:pt x="9962" y="9723"/>
                </a:cubicBezTo>
                <a:cubicBezTo>
                  <a:pt x="9953" y="9676"/>
                  <a:pt x="9926" y="9625"/>
                  <a:pt x="9922" y="9565"/>
                </a:cubicBezTo>
                <a:cubicBezTo>
                  <a:pt x="9916" y="9473"/>
                  <a:pt x="9903" y="9420"/>
                  <a:pt x="9882" y="9346"/>
                </a:cubicBezTo>
                <a:cubicBezTo>
                  <a:pt x="9870" y="9303"/>
                  <a:pt x="9892" y="9282"/>
                  <a:pt x="9882" y="9307"/>
                </a:cubicBezTo>
                <a:cubicBezTo>
                  <a:pt x="9842" y="9413"/>
                  <a:pt x="9907" y="9548"/>
                  <a:pt x="9922" y="9644"/>
                </a:cubicBezTo>
                <a:cubicBezTo>
                  <a:pt x="9929" y="9688"/>
                  <a:pt x="9936" y="9748"/>
                  <a:pt x="9942" y="9783"/>
                </a:cubicBezTo>
                <a:cubicBezTo>
                  <a:pt x="9996" y="9740"/>
                  <a:pt x="10075" y="9676"/>
                  <a:pt x="10140" y="9624"/>
                </a:cubicBezTo>
                <a:cubicBezTo>
                  <a:pt x="10212" y="9571"/>
                  <a:pt x="10231" y="9556"/>
                  <a:pt x="10279" y="9525"/>
                </a:cubicBezTo>
              </a:path>
              <a:path w="12463" h="4287">
                <a:moveTo>
                  <a:pt x="8434" y="7640"/>
                </a:moveTo>
                <a:cubicBezTo>
                  <a:pt x="8468" y="7689"/>
                  <a:pt x="8520" y="7746"/>
                  <a:pt x="8592" y="7759"/>
                </a:cubicBezTo>
                <a:cubicBezTo>
                  <a:pt x="8676" y="7774"/>
                  <a:pt x="8754" y="7753"/>
                  <a:pt x="8830" y="7759"/>
                </a:cubicBezTo>
                <a:cubicBezTo>
                  <a:pt x="8915" y="7766"/>
                  <a:pt x="8998" y="7779"/>
                  <a:pt x="9088" y="7779"/>
                </a:cubicBezTo>
                <a:cubicBezTo>
                  <a:pt x="9301" y="7779"/>
                  <a:pt x="9513" y="7784"/>
                  <a:pt x="9723" y="7759"/>
                </a:cubicBezTo>
                <a:cubicBezTo>
                  <a:pt x="9789" y="7751"/>
                  <a:pt x="9857" y="7742"/>
                  <a:pt x="9922" y="7739"/>
                </a:cubicBezTo>
                <a:cubicBezTo>
                  <a:pt x="9994" y="7736"/>
                  <a:pt x="10050" y="7722"/>
                  <a:pt x="10120" y="7719"/>
                </a:cubicBezTo>
                <a:cubicBezTo>
                  <a:pt x="10153" y="7719"/>
                  <a:pt x="10160" y="7719"/>
                  <a:pt x="10180" y="7719"/>
                </a:cubicBezTo>
              </a:path>
              <a:path w="12463" h="4287">
                <a:moveTo>
                  <a:pt x="9029" y="7759"/>
                </a:moveTo>
                <a:cubicBezTo>
                  <a:pt x="9034" y="7816"/>
                  <a:pt x="9047" y="7847"/>
                  <a:pt x="9049" y="7898"/>
                </a:cubicBezTo>
                <a:cubicBezTo>
                  <a:pt x="9052" y="7968"/>
                  <a:pt x="9080" y="8029"/>
                  <a:pt x="9088" y="8096"/>
                </a:cubicBezTo>
                <a:cubicBezTo>
                  <a:pt x="9097" y="8173"/>
                  <a:pt x="9124" y="8238"/>
                  <a:pt x="9148" y="8315"/>
                </a:cubicBezTo>
                <a:cubicBezTo>
                  <a:pt x="9171" y="8387"/>
                  <a:pt x="9208" y="8468"/>
                  <a:pt x="9227" y="8533"/>
                </a:cubicBezTo>
                <a:cubicBezTo>
                  <a:pt x="9249" y="8611"/>
                  <a:pt x="9306" y="8692"/>
                  <a:pt x="9327" y="8771"/>
                </a:cubicBezTo>
                <a:cubicBezTo>
                  <a:pt x="9352" y="8865"/>
                  <a:pt x="9394" y="8907"/>
                  <a:pt x="9426" y="8989"/>
                </a:cubicBezTo>
                <a:cubicBezTo>
                  <a:pt x="9453" y="9058"/>
                  <a:pt x="9499" y="9136"/>
                  <a:pt x="9525" y="9208"/>
                </a:cubicBezTo>
                <a:cubicBezTo>
                  <a:pt x="9552" y="9281"/>
                  <a:pt x="9584" y="9353"/>
                  <a:pt x="9624" y="9426"/>
                </a:cubicBezTo>
                <a:cubicBezTo>
                  <a:pt x="9642" y="9458"/>
                  <a:pt x="9653" y="9495"/>
                  <a:pt x="9664" y="9525"/>
                </a:cubicBezTo>
                <a:cubicBezTo>
                  <a:pt x="9638" y="9522"/>
                  <a:pt x="9601" y="9520"/>
                  <a:pt x="9585" y="9505"/>
                </a:cubicBezTo>
                <a:cubicBezTo>
                  <a:pt x="9533" y="9457"/>
                  <a:pt x="9521" y="9446"/>
                  <a:pt x="9465" y="9406"/>
                </a:cubicBezTo>
                <a:cubicBezTo>
                  <a:pt x="9441" y="9389"/>
                  <a:pt x="9438" y="9360"/>
                  <a:pt x="9426" y="9346"/>
                </a:cubicBezTo>
                <a:cubicBezTo>
                  <a:pt x="9439" y="9370"/>
                  <a:pt x="9462" y="9426"/>
                  <a:pt x="9485" y="9446"/>
                </a:cubicBezTo>
                <a:cubicBezTo>
                  <a:pt x="9520" y="9476"/>
                  <a:pt x="9550" y="9504"/>
                  <a:pt x="9585" y="9525"/>
                </a:cubicBezTo>
                <a:cubicBezTo>
                  <a:pt x="9619" y="9545"/>
                  <a:pt x="9653" y="9550"/>
                  <a:pt x="9684" y="9565"/>
                </a:cubicBezTo>
                <a:cubicBezTo>
                  <a:pt x="9716" y="9581"/>
                  <a:pt x="9729" y="9596"/>
                  <a:pt x="9723" y="9565"/>
                </a:cubicBezTo>
                <a:cubicBezTo>
                  <a:pt x="9704" y="9497"/>
                  <a:pt x="9684" y="9494"/>
                  <a:pt x="9684" y="9406"/>
                </a:cubicBezTo>
                <a:cubicBezTo>
                  <a:pt x="9684" y="9307"/>
                  <a:pt x="9684" y="9274"/>
                  <a:pt x="9684" y="9208"/>
                </a:cubicBezTo>
              </a:path>
              <a:path w="12463" h="4287">
                <a:moveTo>
                  <a:pt x="7660" y="9803"/>
                </a:moveTo>
                <a:cubicBezTo>
                  <a:pt x="7653" y="9816"/>
                  <a:pt x="7647" y="9829"/>
                  <a:pt x="7640" y="9842"/>
                </a:cubicBezTo>
              </a:path>
              <a:path w="12463" h="4287">
                <a:moveTo>
                  <a:pt x="9029" y="8692"/>
                </a:moveTo>
                <a:cubicBezTo>
                  <a:pt x="9124" y="8647"/>
                  <a:pt x="9140" y="8645"/>
                  <a:pt x="9227" y="8612"/>
                </a:cubicBezTo>
                <a:cubicBezTo>
                  <a:pt x="9278" y="8593"/>
                  <a:pt x="9301" y="8558"/>
                  <a:pt x="9366" y="8572"/>
                </a:cubicBezTo>
                <a:cubicBezTo>
                  <a:pt x="9472" y="8595"/>
                  <a:pt x="9421" y="8570"/>
                  <a:pt x="9485" y="8652"/>
                </a:cubicBezTo>
                <a:cubicBezTo>
                  <a:pt x="9549" y="8734"/>
                  <a:pt x="9511" y="8727"/>
                  <a:pt x="9465" y="8811"/>
                </a:cubicBezTo>
                <a:cubicBezTo>
                  <a:pt x="9420" y="8893"/>
                  <a:pt x="9439" y="8883"/>
                  <a:pt x="9366" y="8930"/>
                </a:cubicBezTo>
                <a:cubicBezTo>
                  <a:pt x="9348" y="8941"/>
                  <a:pt x="9294" y="8998"/>
                  <a:pt x="9287" y="9009"/>
                </a:cubicBezTo>
                <a:cubicBezTo>
                  <a:pt x="9287" y="9016"/>
                  <a:pt x="9287" y="9022"/>
                  <a:pt x="9287" y="9029"/>
                </a:cubicBezTo>
                <a:cubicBezTo>
                  <a:pt x="9339" y="9022"/>
                  <a:pt x="9402" y="8994"/>
                  <a:pt x="9446" y="8989"/>
                </a:cubicBezTo>
                <a:cubicBezTo>
                  <a:pt x="9521" y="8980"/>
                  <a:pt x="9592" y="8959"/>
                  <a:pt x="9664" y="8950"/>
                </a:cubicBezTo>
                <a:cubicBezTo>
                  <a:pt x="9701" y="8946"/>
                  <a:pt x="9745" y="8950"/>
                  <a:pt x="9783" y="89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08640" y="2751120"/>
            <a:ext cx="200160" cy="235080"/>
          </a:xfrm>
          <a:custGeom>
            <a:avLst/>
            <a:gdLst/>
            <a:ahLst/>
            <a:rect l="l" t="t" r="r" b="b"/>
            <a:pathLst>
              <a:path w="556" h="656">
                <a:moveTo>
                  <a:pt x="15061" y="7640"/>
                </a:moveTo>
                <a:cubicBezTo>
                  <a:pt x="15120" y="7657"/>
                  <a:pt x="15207" y="7667"/>
                  <a:pt x="15260" y="7699"/>
                </a:cubicBezTo>
                <a:cubicBezTo>
                  <a:pt x="15306" y="7727"/>
                  <a:pt x="15336" y="7769"/>
                  <a:pt x="15339" y="7818"/>
                </a:cubicBezTo>
                <a:cubicBezTo>
                  <a:pt x="15343" y="7890"/>
                  <a:pt x="15304" y="7963"/>
                  <a:pt x="15260" y="8017"/>
                </a:cubicBezTo>
                <a:cubicBezTo>
                  <a:pt x="15211" y="8077"/>
                  <a:pt x="15137" y="8121"/>
                  <a:pt x="15081" y="8176"/>
                </a:cubicBezTo>
                <a:cubicBezTo>
                  <a:pt x="15054" y="8203"/>
                  <a:pt x="15031" y="8220"/>
                  <a:pt x="15022" y="8255"/>
                </a:cubicBezTo>
                <a:cubicBezTo>
                  <a:pt x="15060" y="8284"/>
                  <a:pt x="15131" y="8290"/>
                  <a:pt x="15180" y="8295"/>
                </a:cubicBezTo>
                <a:cubicBezTo>
                  <a:pt x="15269" y="8305"/>
                  <a:pt x="15351" y="8279"/>
                  <a:pt x="15438" y="8275"/>
                </a:cubicBezTo>
                <a:cubicBezTo>
                  <a:pt x="15484" y="8273"/>
                  <a:pt x="15531" y="8275"/>
                  <a:pt x="15577" y="82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7520" y="2165400"/>
            <a:ext cx="1885680" cy="1120680"/>
          </a:xfrm>
          <a:custGeom>
            <a:avLst/>
            <a:gdLst/>
            <a:ahLst/>
            <a:rect l="l" t="t" r="r" b="b"/>
            <a:pathLst>
              <a:path w="5239" h="3116">
                <a:moveTo>
                  <a:pt x="8195" y="6013"/>
                </a:moveTo>
                <a:lnTo>
                  <a:pt x="8195" y="6013"/>
                </a:lnTo>
              </a:path>
              <a:path w="5239" h="3116">
                <a:moveTo>
                  <a:pt x="8037" y="6032"/>
                </a:moveTo>
                <a:cubicBezTo>
                  <a:pt x="7987" y="6048"/>
                  <a:pt x="7923" y="6083"/>
                  <a:pt x="7878" y="6092"/>
                </a:cubicBezTo>
                <a:cubicBezTo>
                  <a:pt x="7837" y="6092"/>
                  <a:pt x="7822" y="6093"/>
                  <a:pt x="7799" y="6112"/>
                </a:cubicBezTo>
              </a:path>
              <a:path w="5239" h="3116">
                <a:moveTo>
                  <a:pt x="7660" y="6191"/>
                </a:moveTo>
                <a:cubicBezTo>
                  <a:pt x="7637" y="6284"/>
                  <a:pt x="7631" y="6297"/>
                  <a:pt x="7580" y="6370"/>
                </a:cubicBezTo>
                <a:cubicBezTo>
                  <a:pt x="7550" y="6413"/>
                  <a:pt x="7544" y="6497"/>
                  <a:pt x="7541" y="6548"/>
                </a:cubicBezTo>
                <a:cubicBezTo>
                  <a:pt x="7538" y="6604"/>
                  <a:pt x="7521" y="6648"/>
                  <a:pt x="7521" y="6707"/>
                </a:cubicBezTo>
                <a:cubicBezTo>
                  <a:pt x="7521" y="6849"/>
                  <a:pt x="7518" y="6989"/>
                  <a:pt x="7541" y="7124"/>
                </a:cubicBezTo>
                <a:cubicBezTo>
                  <a:pt x="7550" y="7176"/>
                  <a:pt x="7552" y="7233"/>
                  <a:pt x="7560" y="7283"/>
                </a:cubicBezTo>
                <a:cubicBezTo>
                  <a:pt x="7560" y="7296"/>
                  <a:pt x="7560" y="7309"/>
                  <a:pt x="7560" y="7322"/>
                </a:cubicBezTo>
              </a:path>
              <a:path w="5239" h="3116">
                <a:moveTo>
                  <a:pt x="7620" y="7422"/>
                </a:moveTo>
                <a:cubicBezTo>
                  <a:pt x="7633" y="7466"/>
                  <a:pt x="7634" y="7528"/>
                  <a:pt x="7660" y="7560"/>
                </a:cubicBezTo>
                <a:cubicBezTo>
                  <a:pt x="7684" y="7584"/>
                  <a:pt x="7693" y="7595"/>
                  <a:pt x="7699" y="7620"/>
                </a:cubicBezTo>
                <a:cubicBezTo>
                  <a:pt x="7717" y="7580"/>
                  <a:pt x="7649" y="7270"/>
                  <a:pt x="7739" y="7521"/>
                </a:cubicBezTo>
                <a:cubicBezTo>
                  <a:pt x="7769" y="7604"/>
                  <a:pt x="7802" y="7692"/>
                  <a:pt x="7858" y="7759"/>
                </a:cubicBezTo>
                <a:cubicBezTo>
                  <a:pt x="7886" y="7792"/>
                  <a:pt x="7941" y="7845"/>
                  <a:pt x="7977" y="7858"/>
                </a:cubicBezTo>
                <a:cubicBezTo>
                  <a:pt x="8016" y="7872"/>
                  <a:pt x="8041" y="7902"/>
                  <a:pt x="8076" y="7918"/>
                </a:cubicBezTo>
                <a:cubicBezTo>
                  <a:pt x="8103" y="7918"/>
                  <a:pt x="8116" y="7918"/>
                  <a:pt x="8136" y="7918"/>
                </a:cubicBezTo>
              </a:path>
              <a:path w="5239" h="3116">
                <a:moveTo>
                  <a:pt x="7541" y="7045"/>
                </a:moveTo>
                <a:lnTo>
                  <a:pt x="7541" y="7045"/>
                </a:lnTo>
              </a:path>
              <a:path w="5239" h="3116">
                <a:moveTo>
                  <a:pt x="7521" y="7045"/>
                </a:moveTo>
                <a:cubicBezTo>
                  <a:pt x="7421" y="7045"/>
                  <a:pt x="7311" y="7031"/>
                  <a:pt x="7223" y="7025"/>
                </a:cubicBezTo>
                <a:cubicBezTo>
                  <a:pt x="7044" y="7012"/>
                  <a:pt x="6862" y="7036"/>
                  <a:pt x="6687" y="7045"/>
                </a:cubicBezTo>
                <a:cubicBezTo>
                  <a:pt x="6580" y="7051"/>
                  <a:pt x="6475" y="7047"/>
                  <a:pt x="6370" y="7064"/>
                </a:cubicBezTo>
                <a:cubicBezTo>
                  <a:pt x="6264" y="7082"/>
                  <a:pt x="6175" y="7153"/>
                  <a:pt x="6072" y="7183"/>
                </a:cubicBezTo>
                <a:cubicBezTo>
                  <a:pt x="5963" y="7215"/>
                  <a:pt x="5863" y="7261"/>
                  <a:pt x="5755" y="7302"/>
                </a:cubicBezTo>
                <a:cubicBezTo>
                  <a:pt x="5660" y="7338"/>
                  <a:pt x="5546" y="7433"/>
                  <a:pt x="5477" y="7501"/>
                </a:cubicBezTo>
                <a:cubicBezTo>
                  <a:pt x="5395" y="7583"/>
                  <a:pt x="5318" y="7658"/>
                  <a:pt x="5259" y="7759"/>
                </a:cubicBezTo>
                <a:cubicBezTo>
                  <a:pt x="5201" y="7858"/>
                  <a:pt x="5181" y="7951"/>
                  <a:pt x="5140" y="8057"/>
                </a:cubicBezTo>
                <a:cubicBezTo>
                  <a:pt x="5089" y="8189"/>
                  <a:pt x="5079" y="8255"/>
                  <a:pt x="5060" y="8394"/>
                </a:cubicBezTo>
                <a:cubicBezTo>
                  <a:pt x="5043" y="8517"/>
                  <a:pt x="5050" y="8610"/>
                  <a:pt x="5060" y="8731"/>
                </a:cubicBezTo>
                <a:cubicBezTo>
                  <a:pt x="5068" y="8829"/>
                  <a:pt x="5060" y="8931"/>
                  <a:pt x="5060" y="9029"/>
                </a:cubicBezTo>
                <a:cubicBezTo>
                  <a:pt x="5046" y="8997"/>
                  <a:pt x="5056" y="9000"/>
                  <a:pt x="5040" y="8969"/>
                </a:cubicBezTo>
                <a:cubicBezTo>
                  <a:pt x="5006" y="8900"/>
                  <a:pt x="4990" y="8818"/>
                  <a:pt x="4961" y="8751"/>
                </a:cubicBezTo>
                <a:cubicBezTo>
                  <a:pt x="4940" y="8702"/>
                  <a:pt x="4895" y="8658"/>
                  <a:pt x="4882" y="8612"/>
                </a:cubicBezTo>
                <a:cubicBezTo>
                  <a:pt x="4888" y="8612"/>
                  <a:pt x="4895" y="8612"/>
                  <a:pt x="4901" y="8612"/>
                </a:cubicBezTo>
                <a:cubicBezTo>
                  <a:pt x="4928" y="8663"/>
                  <a:pt x="4957" y="8717"/>
                  <a:pt x="4981" y="8791"/>
                </a:cubicBezTo>
                <a:cubicBezTo>
                  <a:pt x="5006" y="8868"/>
                  <a:pt x="5036" y="8980"/>
                  <a:pt x="5080" y="9049"/>
                </a:cubicBezTo>
                <a:cubicBezTo>
                  <a:pt x="5108" y="9092"/>
                  <a:pt x="5143" y="9134"/>
                  <a:pt x="5199" y="9128"/>
                </a:cubicBezTo>
                <a:cubicBezTo>
                  <a:pt x="5299" y="9118"/>
                  <a:pt x="5312" y="9010"/>
                  <a:pt x="5358" y="8950"/>
                </a:cubicBezTo>
                <a:cubicBezTo>
                  <a:pt x="5431" y="8876"/>
                  <a:pt x="5454" y="8856"/>
                  <a:pt x="5477" y="8791"/>
                </a:cubicBezTo>
              </a:path>
              <a:path w="5239" h="3116">
                <a:moveTo>
                  <a:pt x="8453" y="6231"/>
                </a:moveTo>
                <a:cubicBezTo>
                  <a:pt x="8529" y="6246"/>
                  <a:pt x="8575" y="6251"/>
                  <a:pt x="8652" y="6251"/>
                </a:cubicBezTo>
                <a:cubicBezTo>
                  <a:pt x="8728" y="6251"/>
                  <a:pt x="8800" y="6264"/>
                  <a:pt x="8870" y="6271"/>
                </a:cubicBezTo>
                <a:cubicBezTo>
                  <a:pt x="8976" y="6282"/>
                  <a:pt x="9083" y="6271"/>
                  <a:pt x="9188" y="6290"/>
                </a:cubicBezTo>
                <a:cubicBezTo>
                  <a:pt x="9298" y="6309"/>
                  <a:pt x="9414" y="6322"/>
                  <a:pt x="9525" y="6330"/>
                </a:cubicBezTo>
                <a:cubicBezTo>
                  <a:pt x="9624" y="6337"/>
                  <a:pt x="9725" y="6351"/>
                  <a:pt x="9823" y="6370"/>
                </a:cubicBezTo>
                <a:cubicBezTo>
                  <a:pt x="9895" y="6384"/>
                  <a:pt x="9967" y="6402"/>
                  <a:pt x="10041" y="6410"/>
                </a:cubicBezTo>
                <a:cubicBezTo>
                  <a:pt x="10081" y="6410"/>
                  <a:pt x="10094" y="6410"/>
                  <a:pt x="10120" y="6410"/>
                </a:cubicBezTo>
              </a:path>
              <a:path w="5239" h="3116">
                <a:moveTo>
                  <a:pt x="6469" y="8057"/>
                </a:moveTo>
                <a:cubicBezTo>
                  <a:pt x="6454" y="7998"/>
                  <a:pt x="6455" y="7889"/>
                  <a:pt x="6429" y="7838"/>
                </a:cubicBezTo>
                <a:cubicBezTo>
                  <a:pt x="6406" y="7793"/>
                  <a:pt x="6366" y="7746"/>
                  <a:pt x="6350" y="7699"/>
                </a:cubicBezTo>
                <a:cubicBezTo>
                  <a:pt x="6350" y="7693"/>
                  <a:pt x="6350" y="7686"/>
                  <a:pt x="6350" y="7680"/>
                </a:cubicBezTo>
                <a:cubicBezTo>
                  <a:pt x="6375" y="7711"/>
                  <a:pt x="6434" y="7787"/>
                  <a:pt x="6449" y="7818"/>
                </a:cubicBezTo>
                <a:cubicBezTo>
                  <a:pt x="6477" y="7878"/>
                  <a:pt x="6518" y="7954"/>
                  <a:pt x="6548" y="8017"/>
                </a:cubicBezTo>
                <a:cubicBezTo>
                  <a:pt x="6592" y="8110"/>
                  <a:pt x="6642" y="8170"/>
                  <a:pt x="6648" y="8275"/>
                </a:cubicBezTo>
                <a:cubicBezTo>
                  <a:pt x="6650" y="8308"/>
                  <a:pt x="6648" y="8341"/>
                  <a:pt x="6648" y="8374"/>
                </a:cubicBezTo>
                <a:cubicBezTo>
                  <a:pt x="6690" y="8331"/>
                  <a:pt x="6733" y="8321"/>
                  <a:pt x="6787" y="8295"/>
                </a:cubicBezTo>
                <a:cubicBezTo>
                  <a:pt x="6824" y="8277"/>
                  <a:pt x="6870" y="8246"/>
                  <a:pt x="6886" y="8235"/>
                </a:cubicBezTo>
                <a:cubicBezTo>
                  <a:pt x="6899" y="8228"/>
                  <a:pt x="6912" y="8222"/>
                  <a:pt x="6925" y="8215"/>
                </a:cubicBezTo>
              </a:path>
              <a:path w="5239" h="3116">
                <a:moveTo>
                  <a:pt x="5695" y="7104"/>
                </a:moveTo>
                <a:cubicBezTo>
                  <a:pt x="5672" y="7050"/>
                  <a:pt x="5669" y="6952"/>
                  <a:pt x="5636" y="6906"/>
                </a:cubicBezTo>
                <a:cubicBezTo>
                  <a:pt x="5604" y="6862"/>
                  <a:pt x="5601" y="6847"/>
                  <a:pt x="5576" y="6806"/>
                </a:cubicBezTo>
                <a:cubicBezTo>
                  <a:pt x="5597" y="6848"/>
                  <a:pt x="5615" y="6845"/>
                  <a:pt x="5636" y="6886"/>
                </a:cubicBezTo>
                <a:cubicBezTo>
                  <a:pt x="5678" y="6968"/>
                  <a:pt x="5715" y="7043"/>
                  <a:pt x="5755" y="7124"/>
                </a:cubicBezTo>
                <a:cubicBezTo>
                  <a:pt x="5793" y="7200"/>
                  <a:pt x="5844" y="7273"/>
                  <a:pt x="5894" y="7342"/>
                </a:cubicBezTo>
                <a:cubicBezTo>
                  <a:pt x="5932" y="7395"/>
                  <a:pt x="5945" y="7383"/>
                  <a:pt x="5953" y="7441"/>
                </a:cubicBezTo>
                <a:cubicBezTo>
                  <a:pt x="5927" y="7457"/>
                  <a:pt x="5865" y="7461"/>
                  <a:pt x="5854" y="7501"/>
                </a:cubicBezTo>
                <a:cubicBezTo>
                  <a:pt x="5849" y="7519"/>
                  <a:pt x="5856" y="7542"/>
                  <a:pt x="5854" y="7560"/>
                </a:cubicBezTo>
                <a:cubicBezTo>
                  <a:pt x="5898" y="7507"/>
                  <a:pt x="5932" y="7479"/>
                  <a:pt x="5993" y="7441"/>
                </a:cubicBezTo>
                <a:cubicBezTo>
                  <a:pt x="6059" y="7400"/>
                  <a:pt x="6052" y="7368"/>
                  <a:pt x="6132" y="7362"/>
                </a:cubicBezTo>
                <a:cubicBezTo>
                  <a:pt x="6139" y="7362"/>
                  <a:pt x="6145" y="7362"/>
                  <a:pt x="6152" y="7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8200" y="1700280"/>
            <a:ext cx="207720" cy="228600"/>
          </a:xfrm>
          <a:custGeom>
            <a:avLst/>
            <a:gdLst/>
            <a:ahLst/>
            <a:rect l="l" t="t" r="r" b="b"/>
            <a:pathLst>
              <a:path w="576" h="636">
                <a:moveTo>
                  <a:pt x="20995" y="4743"/>
                </a:moveTo>
                <a:cubicBezTo>
                  <a:pt x="21057" y="4726"/>
                  <a:pt x="21113" y="4716"/>
                  <a:pt x="21173" y="4743"/>
                </a:cubicBezTo>
                <a:cubicBezTo>
                  <a:pt x="21234" y="4770"/>
                  <a:pt x="21218" y="4841"/>
                  <a:pt x="21213" y="4882"/>
                </a:cubicBezTo>
                <a:cubicBezTo>
                  <a:pt x="21207" y="4931"/>
                  <a:pt x="21187" y="4940"/>
                  <a:pt x="21173" y="4981"/>
                </a:cubicBezTo>
                <a:cubicBezTo>
                  <a:pt x="21173" y="4988"/>
                  <a:pt x="21173" y="4994"/>
                  <a:pt x="21173" y="5001"/>
                </a:cubicBezTo>
                <a:cubicBezTo>
                  <a:pt x="21246" y="4989"/>
                  <a:pt x="21266" y="4992"/>
                  <a:pt x="21332" y="5001"/>
                </a:cubicBezTo>
                <a:cubicBezTo>
                  <a:pt x="21400" y="5010"/>
                  <a:pt x="21463" y="5024"/>
                  <a:pt x="21511" y="5080"/>
                </a:cubicBezTo>
                <a:cubicBezTo>
                  <a:pt x="21551" y="5127"/>
                  <a:pt x="21570" y="5187"/>
                  <a:pt x="21550" y="5239"/>
                </a:cubicBezTo>
                <a:cubicBezTo>
                  <a:pt x="21520" y="5314"/>
                  <a:pt x="21421" y="5320"/>
                  <a:pt x="21352" y="5338"/>
                </a:cubicBezTo>
                <a:cubicBezTo>
                  <a:pt x="21273" y="5358"/>
                  <a:pt x="21248" y="5364"/>
                  <a:pt x="21193" y="535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21000" y="1793880"/>
            <a:ext cx="4594320" cy="1771560"/>
          </a:xfrm>
          <a:custGeom>
            <a:avLst/>
            <a:gdLst/>
            <a:ahLst/>
            <a:rect l="l" t="t" r="r" b="b"/>
            <a:pathLst>
              <a:path w="12761" h="4922">
                <a:moveTo>
                  <a:pt x="9227" y="6350"/>
                </a:moveTo>
                <a:cubicBezTo>
                  <a:pt x="9254" y="6231"/>
                  <a:pt x="9295" y="6113"/>
                  <a:pt x="9327" y="5993"/>
                </a:cubicBezTo>
                <a:cubicBezTo>
                  <a:pt x="9395" y="5737"/>
                  <a:pt x="9437" y="5551"/>
                  <a:pt x="9664" y="5378"/>
                </a:cubicBezTo>
                <a:cubicBezTo>
                  <a:pt x="9789" y="5283"/>
                  <a:pt x="9887" y="5237"/>
                  <a:pt x="10041" y="5199"/>
                </a:cubicBezTo>
                <a:cubicBezTo>
                  <a:pt x="10200" y="5160"/>
                  <a:pt x="10393" y="5151"/>
                  <a:pt x="10557" y="5140"/>
                </a:cubicBezTo>
                <a:cubicBezTo>
                  <a:pt x="11018" y="5110"/>
                  <a:pt x="11485" y="5120"/>
                  <a:pt x="11946" y="5100"/>
                </a:cubicBezTo>
                <a:cubicBezTo>
                  <a:pt x="12237" y="5087"/>
                  <a:pt x="12528" y="5073"/>
                  <a:pt x="12819" y="5060"/>
                </a:cubicBezTo>
                <a:cubicBezTo>
                  <a:pt x="13143" y="5046"/>
                  <a:pt x="13467" y="5033"/>
                  <a:pt x="13791" y="5020"/>
                </a:cubicBezTo>
                <a:cubicBezTo>
                  <a:pt x="14558" y="4990"/>
                  <a:pt x="15346" y="4952"/>
                  <a:pt x="16113" y="4981"/>
                </a:cubicBezTo>
                <a:cubicBezTo>
                  <a:pt x="16957" y="5012"/>
                  <a:pt x="17810" y="5068"/>
                  <a:pt x="18653" y="5120"/>
                </a:cubicBezTo>
                <a:cubicBezTo>
                  <a:pt x="19540" y="5174"/>
                  <a:pt x="20427" y="5261"/>
                  <a:pt x="21312" y="5318"/>
                </a:cubicBezTo>
                <a:cubicBezTo>
                  <a:pt x="21456" y="5327"/>
                  <a:pt x="21578" y="5323"/>
                  <a:pt x="21709" y="5378"/>
                </a:cubicBezTo>
                <a:cubicBezTo>
                  <a:pt x="21915" y="5464"/>
                  <a:pt x="21881" y="5470"/>
                  <a:pt x="21947" y="5655"/>
                </a:cubicBezTo>
                <a:cubicBezTo>
                  <a:pt x="21983" y="5757"/>
                  <a:pt x="21959" y="5831"/>
                  <a:pt x="21967" y="5933"/>
                </a:cubicBezTo>
                <a:cubicBezTo>
                  <a:pt x="21996" y="6324"/>
                  <a:pt x="21942" y="6717"/>
                  <a:pt x="21908" y="7104"/>
                </a:cubicBezTo>
                <a:cubicBezTo>
                  <a:pt x="21891" y="7292"/>
                  <a:pt x="21877" y="7471"/>
                  <a:pt x="21868" y="7660"/>
                </a:cubicBezTo>
                <a:cubicBezTo>
                  <a:pt x="21858" y="7878"/>
                  <a:pt x="21834" y="8098"/>
                  <a:pt x="21828" y="8315"/>
                </a:cubicBezTo>
                <a:cubicBezTo>
                  <a:pt x="21822" y="8535"/>
                  <a:pt x="21843" y="8750"/>
                  <a:pt x="21848" y="8969"/>
                </a:cubicBezTo>
                <a:cubicBezTo>
                  <a:pt x="21852" y="9149"/>
                  <a:pt x="21842" y="9326"/>
                  <a:pt x="21828" y="9505"/>
                </a:cubicBezTo>
                <a:cubicBezTo>
                  <a:pt x="21825" y="9540"/>
                  <a:pt x="21811" y="9585"/>
                  <a:pt x="21808" y="9624"/>
                </a:cubicBezTo>
                <a:cubicBezTo>
                  <a:pt x="21776" y="9574"/>
                  <a:pt x="21721" y="9543"/>
                  <a:pt x="21689" y="9485"/>
                </a:cubicBezTo>
                <a:cubicBezTo>
                  <a:pt x="21648" y="9409"/>
                  <a:pt x="21612" y="9322"/>
                  <a:pt x="21570" y="9247"/>
                </a:cubicBezTo>
                <a:cubicBezTo>
                  <a:pt x="21589" y="9295"/>
                  <a:pt x="21611" y="9298"/>
                  <a:pt x="21630" y="9346"/>
                </a:cubicBezTo>
                <a:cubicBezTo>
                  <a:pt x="21694" y="9505"/>
                  <a:pt x="21743" y="9677"/>
                  <a:pt x="21788" y="9842"/>
                </a:cubicBezTo>
                <a:cubicBezTo>
                  <a:pt x="21788" y="9875"/>
                  <a:pt x="21788" y="9882"/>
                  <a:pt x="21788" y="9902"/>
                </a:cubicBezTo>
                <a:cubicBezTo>
                  <a:pt x="21809" y="9836"/>
                  <a:pt x="21842" y="9756"/>
                  <a:pt x="21868" y="9684"/>
                </a:cubicBezTo>
                <a:cubicBezTo>
                  <a:pt x="21888" y="9566"/>
                  <a:pt x="21894" y="9528"/>
                  <a:pt x="21947" y="946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9F9-C748-4DED-8E4B-F60843249F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Разберёмся с первыми трем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149640" y="1395360"/>
          <a:ext cx="28177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9640" y="1395360"/>
                    <a:ext cx="28177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04F-6206-49F4-908A-29F60D4B51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20600" y="0"/>
            <a:ext cx="91440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Вначале рассмотрим варианты для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221-57AD-40BB-AF82-0DD691855F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120600" y="0"/>
            <a:ext cx="91440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Вначале рассмотрим варианты для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08240"/>
            <a:ext cx="9144000" cy="3102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35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ом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3E5-1549-4665-A008-EA2096DD2E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89503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50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AE2-ACD6-4C5D-929B-68C6EFAD13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4:21:42Z</dcterms:created>
  <dc:creator>А.В.</dc:creator>
  <dc:description/>
  <dc:language>en-US</dc:language>
  <cp:lastModifiedBy>Us</cp:lastModifiedBy>
  <dcterms:modified xsi:type="dcterms:W3CDTF">2019-10-15T07:51:22Z</dcterms:modified>
  <cp:revision>1644</cp:revision>
  <dc:subject/>
  <dc:title>Основы математического моделирования в педагогических измерениях</dc:title>
</cp:coreProperties>
</file>