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5.wmf" ContentType="image/x-wmf"/>
  <Override PartName="/ppt/media/image28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5.png" ContentType="image/png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33.wmf" ContentType="image/x-wmf"/>
  <Override PartName="/ppt/media/image3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7F6-1415-4196-9186-782DC66D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7AE-7A0A-487E-BA31-43D69903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82E-1294-4EDD-97B4-E4B5D5E0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B11-E35E-423B-8C82-C79DE910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359-DCD2-450A-94A5-128FB83B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EF5-2CB3-447D-8087-ED905E08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78F-0AA2-4F90-8F1F-55061EDA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081-EBC0-4F08-9F26-6A5F52C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9E6-4593-4E19-8938-8C77D7F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E17-27EC-47A5-A8CE-2DC1B03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894-8B42-467C-A1FC-C44D4AA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E5F-06C5-4DE8-BAA0-32D2E93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F02D-A383-4C29-BAA1-B79F3A62B44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9DA5-55C4-4C6C-8C10-D086FFBEB6A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.wm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9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налитическая геомет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Лекция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истемы координа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стейшие задачи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налитической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E24-45C7-495A-BF6A-FC1C4E03D0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 из главных особенностей метода аналитической геометр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требление чис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определения поло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их образ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и числа называются их координа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D75-9F0C-46E0-942F-C08BA76BA6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 координа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которого задачи геометр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гут быть истолкован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языке матанализ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, обратн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ы анализа могут приобрест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ое толкование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ёл французский учёный Рене Дека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DD5-B57B-4050-84A3-800E93FC25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ртовы координаты на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(прямая с указанны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е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о координат (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а длины (единичный отрезок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560600" y="3203640"/>
            <a:ext cx="6126120" cy="13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606600" y="4751280"/>
          <a:ext cx="164124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6600" y="4751280"/>
                    <a:ext cx="16412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386080" y="5000760"/>
            <a:ext cx="39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ордината т.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4760" y="6134040"/>
            <a:ext cx="57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чин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даёт масшта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F70-903D-4964-BEA0-13066BF044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картовы координаты на пря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.М задана, 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её координата извест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айти т.М – значит определить её координ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и высказывани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асто встречаются в зада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E95-79F0-43BB-92CE-A3CE1C881D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41080" y="170928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Направлен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ре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092-14A3-4B2B-8F99-EE2C588BDD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авленные отрез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079640" y="792000"/>
            <a:ext cx="7223040" cy="36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685800" y="1514520"/>
          <a:ext cx="7673760" cy="2182680"/>
        </p:xfrm>
        <a:graphic>
          <a:graphicData uri="http://schemas.openxmlformats.org/drawingml/2006/table">
            <a:tbl>
              <a:tblPr/>
              <a:tblGrid>
                <a:gridCol w="1876320"/>
                <a:gridCol w="1876320"/>
                <a:gridCol w="3921120"/>
              </a:tblGrid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ез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227240" y="2233440"/>
          <a:ext cx="766800" cy="55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7240" y="2233440"/>
                    <a:ext cx="7668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236600" y="3008160"/>
          <a:ext cx="766800" cy="59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36600" y="3008160"/>
                    <a:ext cx="7668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978280" y="2163600"/>
          <a:ext cx="906480" cy="6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8280" y="2163600"/>
                    <a:ext cx="906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2995560" y="2955960"/>
          <a:ext cx="871560" cy="69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95560" y="2955960"/>
                    <a:ext cx="8715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683240" y="2163600"/>
          <a:ext cx="3311280" cy="69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240" y="2163600"/>
                    <a:ext cx="33112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632480" y="2955960"/>
          <a:ext cx="3587760" cy="696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32480" y="2955960"/>
                    <a:ext cx="35877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0" y="4070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улевой отрез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004840" y="4070520"/>
          <a:ext cx="766800" cy="556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04840" y="4070520"/>
                    <a:ext cx="7668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1989000" y="4849920"/>
          <a:ext cx="1428840" cy="487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89000" y="4849920"/>
                    <a:ext cx="142884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7D6-6B86-4750-B36F-2C9676FE1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нейные операци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 направленными отрез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венство направленных отрезков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у них совпадают начало и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улевые отрезки все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венство величин направленных отрезк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е и достаточное условие равенства сами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D97-19CF-475B-9D07-82477C64F8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нейные операци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 направленными отрез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ные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ложение отрез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множение отрезка на веществен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CC7-567F-467E-87A0-C061219766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9144000" cy="67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нейные операци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 направленными отрез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ложение отрез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сновная 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чина суммы направленных отрез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мме величин слагаемых отрез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ледствие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основное тождест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любом расположении точек А, В, С на 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973240" y="5473800"/>
          <a:ext cx="292752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3240" y="5473800"/>
                    <a:ext cx="29275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0" y="454356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11B-88B3-4E9A-A230-384ABC7E36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9144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нейные операции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 направленными отрез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множение отрезка на вещественное чис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едение направленного отрезка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исло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направленный отрезок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длина равна произведению числа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лину отрезка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го направление совпадает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направлением отрезка       пр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0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ротивоположно направлению       при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435800" y="1959120"/>
          <a:ext cx="7668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5800" y="1959120"/>
                    <a:ext cx="7668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5259240" y="3067200"/>
          <a:ext cx="1289160" cy="59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9240" y="3067200"/>
                    <a:ext cx="128916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319880" y="3686040"/>
          <a:ext cx="52236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9880" y="3686040"/>
                    <a:ext cx="522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3413160" y="4197240"/>
          <a:ext cx="76680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3160" y="4197240"/>
                    <a:ext cx="7668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4734000" y="5459400"/>
          <a:ext cx="766800" cy="557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4000" y="5459400"/>
                    <a:ext cx="7668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6243480" y="5952960"/>
          <a:ext cx="766800" cy="557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3480" y="5952960"/>
                    <a:ext cx="7668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861-EF1E-4B44-9471-556DEE2124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831600" y="1974600"/>
            <a:ext cx="797076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 Вводные замечания.</a:t>
            </a: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 термине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Геометрия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EE8-7A82-4401-8ED9-43A478B20D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им произвольную т.М на 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892160" y="636480"/>
            <a:ext cx="4799160" cy="1130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0" y="1657440"/>
            <a:ext cx="914400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 направленного отрезка          е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артова координата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и 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Теор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есть две точки              и              .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 направленного отрезка            ра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ств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6595920" y="1609560"/>
          <a:ext cx="87156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95920" y="1609560"/>
                    <a:ext cx="8715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3708360" y="2674800"/>
          <a:ext cx="1220760" cy="69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08360" y="2674800"/>
                    <a:ext cx="12207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110120" y="3930480"/>
          <a:ext cx="1465200" cy="696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0120" y="3930480"/>
                    <a:ext cx="14652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5952960" y="3930480"/>
          <a:ext cx="1500480" cy="69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52960" y="3930480"/>
                    <a:ext cx="150048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6459480" y="4627440"/>
          <a:ext cx="1290600" cy="695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59480" y="4627440"/>
                    <a:ext cx="1290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833560" y="5310360"/>
          <a:ext cx="2894040" cy="62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33560" y="5310360"/>
                    <a:ext cx="289404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0" y="33336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593892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2492280" y="6064200"/>
          <a:ext cx="3627360" cy="69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492280" y="6064200"/>
                    <a:ext cx="36273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155-2BF6-4703-9B9F-EE5172D6F7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картовы координ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лоскости и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507960" y="1566720"/>
            <a:ext cx="3219480" cy="29131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3875040" y="1062000"/>
            <a:ext cx="5268960" cy="38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4" name=""/>
          <p:cNvGraphicFramePr/>
          <p:nvPr/>
        </p:nvGraphicFramePr>
        <p:xfrm>
          <a:off x="480960" y="5180040"/>
          <a:ext cx="233676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960" y="5180040"/>
                    <a:ext cx="2336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4944960" y="5180040"/>
          <a:ext cx="3103560" cy="7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44960" y="5180040"/>
                    <a:ext cx="31035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4475160" y="5946840"/>
            <a:ext cx="46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ая и левая тро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DD4-64DC-4B35-AAE8-1381FC7368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541080" y="170928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Простейшие задачи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налитической г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D5D-01BC-4F30-A608-A3D79929FE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ейшие задач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тической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екция направленного отрезка на 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303200" y="4749840"/>
          <a:ext cx="662796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4749840"/>
                    <a:ext cx="66279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1436760" y="2071800"/>
            <a:ext cx="6256440" cy="2225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0" y="5681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гол между направлением отрезка и положительным направлением ос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2423-B3CD-4B71-B030-D11CA3F205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ейшие задач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тической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асстояние между точ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299880" y="2440080"/>
          <a:ext cx="844236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0080"/>
                    <a:ext cx="84423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FC0-1307-4010-BA06-C42080BD8C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стейшие задач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тической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Деление отрезка в данном отнош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46200" y="4881600"/>
          <a:ext cx="19191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200" y="4881600"/>
                    <a:ext cx="19191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58920" y="2236680"/>
            <a:ext cx="8210520" cy="14176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136440" y="3743280"/>
            <a:ext cx="8836200" cy="6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3100320" y="4861080"/>
          <a:ext cx="23036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0320" y="4861080"/>
                    <a:ext cx="2303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6240600" y="4861080"/>
          <a:ext cx="2058840" cy="10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0600" y="4861080"/>
                    <a:ext cx="20588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510-80D3-4E7C-B6CF-A032C6B46C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9144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тейшие задач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ческой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еление отрезка в данном отнош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ожное (ангармоническое, двойное) отно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2889360"/>
            <a:ext cx="91440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ое отношение четырёх точе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B,C,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тношение двух отношени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тором 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 отрезо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котор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 тот же отрезо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моническое отношение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CD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2459160" y="4835520"/>
          <a:ext cx="39081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9160" y="4835520"/>
                    <a:ext cx="39081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696-A885-42FE-A228-0F480BB6E9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Д О М О 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обрать все доказа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ассмотрет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лярную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цилиндрическую и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ферическую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истемы координ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DCF-6CB9-46D5-86EA-83DB119736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9144000" cy="74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Л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У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Р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, которую дала Ольга Владимир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у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орисенко А.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жно взять на сайт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.hou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льин В. А., Позняк Э.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ая геометр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Цубербиллер О. Н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 и упражн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аналитической геомет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ышкис А.Д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и по высшей матема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годский М.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вочник по высшей матема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2B9-A3F1-4A26-9D6F-591C4CE3CE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91440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НИГА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ЛЯ ЧТЕНИЯ </a:t>
            </a:r>
            <a:br>
              <a:rPr sz="3200"/>
            </a:b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А ДОСУ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рант Р., Роббинс Г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такое математ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E3A-CF5D-4076-9774-193AFF905F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19240"/>
            <a:ext cx="91440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Геометрия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зна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, описывающая некотор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ространства (и с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ис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D9F1-D4C1-499D-85BE-85C5ABF4F9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19240"/>
            <a:ext cx="91440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Геометрия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зна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есть наука, изучающ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свойства фигур, не меняющиеся пр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преобразованиях некоторой групп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пре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, описывающая некотор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ространства (и с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ис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082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62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CA0-D0D8-4161-9117-3F21553C5E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9240"/>
            <a:ext cx="9144000" cy="60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Геометрия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зна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етическая геомет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ая геомет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альная геометрия.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, описывающая некотор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ространства (и с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ис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83876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8912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0DAA-4905-45AE-B6BB-03C651BA02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19240"/>
            <a:ext cx="9144000" cy="65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Геометрия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зна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(облас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ия, описывающая некотор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ространства (и с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ис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клидова геомет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ффинная геометр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вная геомет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ормная геометр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 Лобачев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манова геометрия.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828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75648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5CF-5FDC-4878-89FC-569A6AB56F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и то же 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описать разными способ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вклидовой геометрии примен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тетическая геометр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(используются свойства фигур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тическая геометр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(средствами алгебры на основ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а координа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торный метод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(используются аксиоматика Вейл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кторная алгеб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4D1-48F3-417C-95E3-220588897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82800" y="1387440"/>
            <a:ext cx="5680080" cy="5072040"/>
          </a:xfrm>
          <a:prstGeom prst="rect">
            <a:avLst/>
          </a:prstGeom>
          <a:ln w="0">
            <a:noFill/>
          </a:ln>
        </p:spPr>
      </p:pic>
      <p:sp>
        <p:nvSpPr>
          <p:cNvPr id="82" name="Содержимое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ctr" pos="2149560"/>
                <a:tab algn="ctr" pos="69055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ение рисунка и знания свойств фигур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ешения задач с помощь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тической геомет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DEE-D1E5-403D-9331-7D9754FF9E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41080" y="1709280"/>
            <a:ext cx="797076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Полож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чк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3B8-3807-4C1E-BEDC-3778CA3678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1:42Z</dcterms:created>
  <dc:creator>А.В.</dc:creator>
  <dc:description/>
  <dc:language>en-US</dc:language>
  <cp:lastModifiedBy>Таня</cp:lastModifiedBy>
  <dcterms:modified xsi:type="dcterms:W3CDTF">2018-01-17T06:05:53Z</dcterms:modified>
  <cp:revision>1279</cp:revision>
  <dc:subject/>
  <dc:title>Основы математического моделирования в педагогических измерениях</dc:title>
</cp:coreProperties>
</file>